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4.jpeg" ContentType="image/jpeg"/>
  <Override PartName="/ppt/media/image16.wmf" ContentType="image/x-wmf"/>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D95D-279A-4A13-9896-0EF61FDE67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Einführu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e Farbenlehre ist im Laufe der Jahrzehnte, die ich miterlebt habe, aus der Schule immer mehr verschwunden, so dass heute eigentlich nur noch Rudimente des altehrwürdigen Themas erkennbar sind. Das liegt nicht nur daran, dass viele neue Stoffe in die Schule hereindrängten, sondern wohl auch in der Tatsache, dass die Farbenlehre kein rein physikalisches Thema ist. Zur Farbe gehört ja zweierlei: Einmal das Licht in besonderer Zusammensetzung - das ist die physikalische Seite der Farbenlehre-, zum andern unabdingbar aber auch der Mensch, der dieses Licht erst als Farbe empfindet. Diese auf die Empfindung bezogene Komponente führt bei vielen Physiklehrern zu einer abwehrenden Haltung : Farbenlehre ist doch keine echte Physik! Im neuen Lehrplan für das Gymnasium taucht die Farbenlehre ganz am Anfang auf. Ich finde das erfreulich, denn das Thema ist für den Anfangsunterricht sehr geeignet, wenn wir es richtig angehen. In diesem Alter entdecken die Schüler ihre eigenen Sinne immer mehr, nehmen sie viel bewusster wahr, und das Interesse für das Thema ist also in besonderem Maß vorhand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n Wort noch zu den neue Medien: Was ich hier darunter verstehen will, ist natürlich in erster Linie der Computer, in zweiter aber auch der Tageslichtprojektor. Nun werden sie sagen: Den OHP, den kennen wir schon seit 30 Jahren – so neu ist der also nicht. Stimmt. Der hat sich seit mindestens 25 Jahren im Unterricht, speziell m Physikunterricht durchgesetzt. Was aber sich vielleicht noch nicht überall herumgesprochen hat ist: Dass er ein ausgezeichnetes und sehr  mächtiges Hilfsmittel in der Farbenlehre ist. Das möchte ich Ihnen durch einige Experimente zunächst einmal nahe bringen.</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e Antwort des Farbspions lautet also: Von den 16 Millionen einstellbaren Farben sind mindestens jeweils 8 so wenig unterschiedlich, dass sie für unser Auge als gleich gelten müssen. Der Farbraum des RGB-Monitors umfasst also nur 16:8= 2 Millionen unterscheidbare Farben. Übrigens ist das wohl auch eine Frage der Qualität des Monitors, ich habe schon solche getestet, bei welchen jeweils 3x3x3 = 27 Farbeinstellungen nicht zu unterscheiden waren.</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s bleibt aber eine wesentliche Frage offen: Kann der RGB-Monitor wirklich alle Farben darstellen, die wir sehen können, oder gibt es Farben die er nicht zustande brin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e Antwort will ich gleich vorweg nehmen: Sie lautet nein! Es gibt tatsächlich sehr viele Farben, die der RGB-Monitor nicht darstellen kann – ohne dass uns dies beim Fernsehen ernsthaft stört. Die meisten Menschen bemerken es gar nich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ne Farbe, die er z.B. schon mal nicht kann, ist dieses stark gesättigte Rot des Rotwe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lfsmittel:, Overheadfolie mit Farbsohle, Filzschreiber, Lochschablone und Rubinglasscheibe, Vergleich mit Rot des Farbmixer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rbnormtafel wird auf den OHP gelegt! Schwerpunktsatz wird mit Filzschreiber erläut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Sie haben alle schon die sog. Farbnormtafel gesehen, in der alle für unser Auge unterscheidbaren Farbtöne festgehalten sind. Ich habe sie von einer Vorlage abgescannt, die Wiedergab ist sehr schlecht; sie muss es sein; denn hier werden ja Farben angedeutet, die der Computer nicht darstellen kann, und noch viel weniger kann man sie mit einem Tintenstrahldrucker druc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elche Bewandtnis hat es nun mit dieser seltsamen sohlenförmigen Farbtafel, bei der am Rand die Spektralfarben vom Blau bis rot liegen, in der MitteWeiß, während den Abschluss der Sohle die Purpurtöne bilden. Warum die seltsame Sohlenform, warum macht man nicht einen ordentlichen Kreis dara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Grund dafür liegt darin, dass für diese Tafel der sog. Schwerpunktssatz gilt, nach dem  sofort die additive Mischfarbe zweier Farben ermitteln kann: Z. B. ergibt die Mischung dieser Farbe mit der auf jeden Fall eine Farbe, die auf der Verbindungsstrecke liegt und diese in einem Verhältnis teilt, das der Intensität der beiden Mischungspartner entspricht. Kommt noch ein dritter Mischungspartner hinzu, so wendet man den Schwerpunktsatz noch einmal an und erhält so einen Punkt, der auf jeden Fall im Innern des Dreiecks liegt, das von den drei Farben aufgespannt wird. Hat man also drei Primärfarben, die mit unterschiedlicher Intensität gemischt werden, so ergibt sich immer ein Farbpunkt der im Innern des Dreiecks liegt und als Schwerpunkt des gewichteten Dreiecks zu sehen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r können jetzt verstehen, wie man vom Farbkreis zu Normtafel kommt. Man muss den Farbkreis geeignet verzerren, und zwar zu einem Dreieck, an dessen Ecken die drei Primärfarben des Monitors liegen. Alles was außerhalb des Dreiecks liegt, kann auf Grund des Schwerpunktsatzes mit den gegebenen Primärlichtern nicht dargestellt werd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ass hier eine ganze Menge Farben fehlen müssen, will ich Ihnen gleich durch einen Versuch zeigen. Z.B. ist dieses Rot viel gesättigter als das, welches ein normaler Monitor herbringt. Und dieses Grün kann auch nicht dargestellt werden – sie sehen, da oben bleibt ja ziemlich viel Platz für andere Farben. Ich würde das Grün des Farbfilters etwa hier einordnen, also noch lange nicht auf dem Rand, denn das Grün ist noch lange nicht voll gesättigt wie eine Spektralfar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o betrachtet, ist also das, was der Farbmonitor kann, doch recht bescheiden. In der Praxis ist es aber voll ausreichend. Wollte man ihn verbessern, so müsste man Primärfarben von höherer Sättigung verwenden, und vielleicht noch eine vierte und fünfte Primärfarbe hinzunehm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Zahl der Farben, die unser Auge überhaupt unterscheiden kann, erhöht sich natürlich durch diesen Umstand beträchtlich. Man schätzt heute, dass unser Auge nicht nur 2 Millionen Farben unterscheiden kann, die der Computer machen kann, sondern sogar 7 Millionen, die sich mit weiteren Hilfsmitteln herstellen lass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Um die Behandlung des Vierfarbendrucks wird man im Unterricht nicht umhin können; die meisten Schüler haben ja heute einen Tintenstrahldrucker.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m einfachsten läßt sie sich wieder am Tagelichtprojektor durch Übereinanderlegen von Folien erläutern. Ich lege zunächst diese cyanfarbene Folie auf; die Farbe ist uns heute schon begegnet; sie entsteht, wie wir schon wissen, durch additive Mischung von Blau und Grün. Das Filter läßt also blau und grün durch, sperrt aber gelb und rot.. Wenn ich nun das magentafarbene Filter betrachte, dann läßt das rot und blau durch, sperrt aber grün und gelb. Lege ich sie übereinander, so nimmt das magentafarbene Filter vom Cyan das Grün weg (hier geht die Mischung also subtraktiv!), es bleibt also nur das tiefe Blau. Diese helle Gelbfilter dagegen, wenn ich das über die beiden andern Filter lege, dann erscheint der Teil über dem Cyanfilter Grün und der Teil über dem Magentafilter rot. Das kann nur so erklärt werden, daß das Gelbfilter gar kein echtes Gelbfilter ist, sondern außer Gelb noch Grün und Rot, die ja zusammen auch Gelb ergeben, durchläßt. Dehalb erscheint das Gelbfilter auch so hell, es läßt drei Farbbereiche durch. Legt man alle drei Farben übereinander, so ergibt sich schwarz, weil jede Spektralfarbe durch mindestens eines der Filter gesperrt wird. So erhält man durch übereinanderlegen von drei Farbschichten insgesamt 7 Farben, wobei das Schwarz nicht besonders gut herauskommt, meist hat es einen Stich ins Rote oder ins Grüne. Deshalb verwendet man seit alters her zum Druck noch ein eigenes Schwarz als vierte Farbe. Außer den 7 erwähnten Farben lassen sich aber auch noch Zwischenfarben erreichen, wenn man die vier Grundfarben in geringerer Sättigung verwende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Ich habe hier ein Stufenfilter in gelb, das 7 Sättigungsgrade des Gelb erzeugt. Ich habe einfach die gleichen Folien Stufenartig übereinandergeschichtet. Ebenso habe ich hier auch ein Magenta- und ein Cyanstufenfilter. Wenn ich zwei der Filter gekreuzt übereinander lege, so bekomme ich bereits eine Palette von 7x7 Farbtönen, also man bekommt schon eine recht ordentliche Auswahl an Zwischenfarb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ragt sich nur, wie der Tintenstrahldrucker z.B. ein weniger gesättigtes Magenta aufs Papier bringt. Wir können das anhand dieses Gelbkeiles studieren, den ich mir für diesen Zweck ausgedruckt habe. Wir sehen, dass die stärkste Sättigung erreicht wird durch lückenlosen Auftrag der Farbe, während die geringeren Sättigungsgrade dadurch erreicht werden, dass immer mehr weiß zwischen den einzelnen Farbklecksen gelassen wird. Dunklere Farben entstehen, wenn zwischen die gelben Tröpfchen schwarze gesetzt werd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Vierfarbendruck lässt sich also relativ einfach verstehen, wenn man die geeigneten Folien zur Verfügung h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o gesehen, scheint die subtraktive Mischung eine recht einfache Sache zu sein - aber man täusche sich da nicht. In Wirklichkeit ist das Ergebnis der subtraktiven Mischung zweier Farben nicht vorhersehbar, wenn man die beiden Farben nur dem Ansehen nach kenn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ährend nämlich bei der additiven Mischung der Satz gilt, daß metamere Farben auch zu gleich aussehenden Mischungen führen, gilt dieser Satz für die subtraktive Mischung nicht. Dafür gibt es einen einfachen und überzeugenden Versuc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Man betrachtet diese rot-grüne Scheibe im Gelbfilterlicht. Sie behält dabei ihre Farben, denn das Gelbfilterlicht enthält, wie wir wissen, Rot, Grün und Gelb und die Rote Scheibe mischt subtraktive, sie reflektiert nämlich nur den roten Anteil, während die grüne Scheibe den grünen reflektiert. Es handelt sich also um subtraktive Mischung dieser Farben mit Gelbfilterlicht. Ersetzt man nun das Gelbfilterlicht durch Natriumlich, indem man einen Löffel Kochsalz in die Bunsenflamme hält, so sieht das Licht genauso gelb aus, wie das Filterlicht, da ist kein Unterschied zu erkennen. Aber dieses beiden Farben werden dann zu Grau, denn rotes Licht kann nicht reflektiert werden, ebenso wenig Grünes, weil keines da is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rläuterung mit</a:t>
            </a:r>
            <a:r>
              <a:rPr b="1" lang="de-DE" sz="1000" spc="-1" strike="noStrike">
                <a:solidFill>
                  <a:srgbClr val="000000"/>
                </a:solidFill>
                <a:latin typeface="Times New Roman"/>
                <a:ea typeface="Times New Roman"/>
              </a:rPr>
              <a:t> Submi</a:t>
            </a:r>
            <a:r>
              <a:rPr b="0" lang="de-DE" sz="1000" spc="-1" strike="noStrike">
                <a:solidFill>
                  <a:srgbClr val="000000"/>
                </a:solidFill>
                <a:latin typeface="Times New Roman"/>
                <a:ea typeface="Times New Roman"/>
              </a:rPr>
              <a:t>: Es müßte eigentlich multiplikative Mischung heiß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Streifen in den Farben Cyan, Magenta und Yellow, Stufenfilter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iele interessante Erfahrungen, die man im Zusammenhang mit Farben machen kann, bleiben einfach unverständlich, wenn man nicht auf den physiologischen Hintergrund eingeht, der sich vereinfacht durchaus schulgerecht behandeln läss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Um die Erscheinung zu deuten, verwende ich ein kleines Computerprogramm zur Theorie der Farbwahrnehmung nach Young und Helmholtz. Diese Theorie, die heute weitgehend akzeptiert ist, besagt, dass für die Farbwahrnehmung drei verschiedene Zapfenarten in der Sehgrube der Netzhaut zuständig sind. Diese Zapfen werden vom Licht unterschiedlich stark angeregt, je nach Wellenlänge des Lichtes. Die eine Zapfenart hat ein Maximum der Empfindlichkeit im Blauen, die andere im Grünen und die dritte im Roten - die drei Empfindlichkeitskurven werden da oben vereinfacht wiedergegeben. Wenn nun Licht  mit einer glockenförmigen Intensitätsverteilung auf die Netzhaut trifft, werden die Zapfenarten unterschiedlich stark angeregt. Die jeweilige Anregung ergibt sich - grob gesprochen - ob mehr oder weniger Fläche der Glockenkurve auf die entsprechende Empfindlichkeitskurve fällt. Genauer lassen sich die Anregungen durch drei Integrale berechnen, wie hier auf der Folie angegeben. Das macht der Computer sehr schnell, und aus der jeweiligen Erregung der Zapfensorten, die in irgendeiner Weise ans Gehirn weitergemeldet wird, entsteht dann der Farbeindruck, der hier in den beiden Fenstern in verschiedenen Helligkeitsstufen wiedergegeben wird. Je nach Stellung des Maximums der Glockenkurve sehen wir alle Spektralfarben aufleuchten. Wenn wir die Glocke immer weiter verbreitern, wird schließlich die Anregung der drei Zapfenarten immer mehr gleich und wir sehen weiß.</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Nun zur Erklärung der negativen Nachbilder: Wenn wir längere Zeit auf eine rote Fläche schauen, so werden die rotempfindlichen Zapfen ermüden, was ihre Empfindlichkeit herabsetzt. Wenn wir dann auf eine weiße Fläche schauen, werden wir diese in der komplementären Farbe sehen, weil unser visuelles System aus dem Gleichgewicht gekommen is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orführung farbiger Schatt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Rot-Folie auf Overhead, dazu weißes Licht mit Experimentierleuchte darauf geben, Schatten mit der Hand erzeugen. Der eine Schatten erscheint Rot, der andere Grü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Folie Dark Red, 12V-Halogen-Experimentierleuchte, 5m Kabel</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einen Trick kann man die Sättigung von Farben für einige Sekunden weitgehend steig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Kreis zeigt oben Cyan, unten Rot, jeweils in der höchsten Sättigung, die dem Monitor möglich ist. Bitte schauen Sie genau auf den Mauszeiger und lassen sie ihn nicht aus den Augen; das ist wichtig.Die Figur brennt sich gewissermaßen jetzt auf der Netzhaut ihres Auges ein. Das dauert allerdings etwa 10 – 20 Sekunden, wobei wichtig ist, dass der Kreis immer auf die gleiche Stelle der Netzhaut abgebildet wird. Sie müssen also starr immer auf die gleiche Stelle schaue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ich jetzt plötzlich den Kreis wegnehme, sehen sie ihn auf dem grauen Hintergrund trotzdem wieder auftauchen, allerdings umgekeh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ffenbar werden jetzt alle Teile ihrer Netzhaut mit dem gleichen Licht bestrahlt – dennoch meldet die Netzhaut ihrem Gehirn für die vorbehandelten Stellen unterschiedliche Farben, wenigstens eine gewisse Zeit lang. Vielleicht ist ihnen aufgefallen, dass der Kreis jetzt umgekehrt auf dem grauen Hintergrund erschien. Es ist also so, dass die mit Rot vorbehandelten Teile der Netzhaut dem Gehirn Cyan melden und umgekehrt. Das sogenannte Nachbild erscheint also invertie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der Zwischenzeit hat sich die Netzhaut ihres Auges regeneriert, sie sehen den Hintergrund wieder einheitlich gr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wiederholen den Versuch jetzt. Schauen sie wieder genau auf den Mauszeiger um das Bild auf ihrer Netzhaut einzubre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ielleicht sehen sie an der Grenze zwischen rot und cyan jetzt manchmal ein helles Aufscheinen von stark gesättigtem rot und stark gesättigtem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rscheinung erklärt sich dadurch,  dass an dem Rand durch kleine Bewegungen des Augapfels Nachbild und reales Bild  vermischen, und dann addieren sich gewissermaßen die Farben des Nachbildes zu denen des reales Bild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ich jetzt das reale Bild plötzlich umdrehe, haben wir diese Addition von Nachbild und realem Bild über die ganze Fläche und wir sehen virtuelles Rot und Cyan, also die Farben in einem Sättigungsgrad. Den sie in Wirklichkeit nicht besitz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Zerlegung weißen Lichtes in ein Spektrum ist das Schlüsselexperiment, das das Tor zur Farbenlehre erst einmal aufsperren mu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e lässt sich der OHP dabei – der Altersstufe entsprechend - einsetzen?  Ich bilde zunächst einen roten Spalt ab und zeige, was passiert, wenn ich das Lichtbündel, welches das Projektionsobjektiv verlässt, durch ein Prisma schicke. Wenn man durch das Prisma schaut, wird alles etwas zur Seite gerückt. Das passiert dem Spaltbild auch, es wird abgelenkt, klar wegen der Brechung. Ich würde aber jetzt die Geduld der Schüler nicht durch eine zweimalige Anwendung des Brechungsgesetzes strapazieren, dann wäre es nämlich aus mit dem Spaß an der Sache, sondern das einfach zur Kenntnis nehmen. Dann ersetze ich den roten Spalt durch einen grünen: Die Ablenkung wird stärker. Nun sind die vielleicht Schüler neugierig, neugierig nicht darauf warum das so ist, sonder darauf, wohin das Bild eines weißen Spaltes abgelenkt wird: Die Überraschung: Es entsteht ein Spektrum. Die Schüler erkennen hier, dass all die Farben, die im Spektrum zu sehen sind, schon im weißen Licht enthalten sind und vom Prisma nur nebeneinander sortiert werden. Auf das Thema Dispersion würde ich hier gerne verzichten – es bringt uns nicht weiter auf dieser Stuf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er ist, dass den farbigen Lichtanteilen bei dem Sortierprozess  nichts weiter Böses geschieht, und das zeigt man, indem man sie wieder zu Weiß vereinigt, was man z. B. mit einem biegsamen Spiegel tun kann. Fehlt bei der Wiedervereinigung eine Farbe (Abblenden mit Papierschieber), so ergibt sich kein Weiß, sondern eine Farbe, die man komplementär zur fehlenden Farbe nen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chon hier kann man zeigen, dass Farbfilter das Licht nicht irgendwie anfärben, so wie man Flüssigkeiten durch Farbstoffe anfärbt – das ist nämlich die Vorstellung der Schüler zunächst -; die Wirkung solcher Filter besteht vielmehr darin, dass sie einen Anteil des weißen Lichtes zurückhalt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Spaltschablone, Prismentisch mit Halterung, Glasprisma, biegsamer Spiegel, Fresnellinse + Papierstreif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len Dank fürs Zuhö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ll man etwas weiter in die Farblehre eindringen, so muss man begriffen haben, dass sich Farben auf zwei grundsätzlich verschiedene Arten mischen lassen. Auch dabei ist der OHP das Mittel meiner Wahl. Man kann nämlich durch einen sehr einfachen Versuch bei den Schülern in einen heilsamen kognitiven Konflikt auslösen, der das Mischen von Farben betrifft: Auf dem OHP stehen zunächst zwei Wannen mit farbigen Lösungen: die eine türkisblau, die andere gel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ragt man die Schüler, was die Mischung der beiden Farben ergibt, so antworten sie immer: Grün. Das entspricht ihrer Erfahrung aus dem Umgang mit Malfarben. Man kann zeigen, dass dies richtig ist: Man gießt aus beiden Wannen Farblösung zusammen in eine dritte, die grün erscheint. Das gleich Ergebnis erhält man, wenn man die Wannen mit türkisblauer und gelber Lösung übereinander stellt, gleich in welcher Reihenfol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Nun kommt aber die Überraschung: Die Mischung der Farben lässt sich auch anders bewerkstelligen, nämlich mit einem Spiegel, indem man blaues Licht auf das gelbe lenkt oder umgekehrt. In beiden Fällen beobachtet man wieder das gleiche, diesmal aber ergibt die Mischung wei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Versuch zeigt sehr eindringlich: </a:t>
            </a:r>
            <a:r>
              <a:rPr b="0" lang="de-DE" sz="1000" spc="-1" strike="noStrike">
                <a:solidFill>
                  <a:srgbClr val="000000"/>
                </a:solidFill>
                <a:latin typeface="Times New Roman"/>
              </a:rPr>
              <a:t>„Farbe“ und „Farbe“ ist nicht immer das gleiche:</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muss </a:t>
            </a:r>
            <a:r>
              <a:rPr b="1" i="1" lang="de-DE" sz="1000" spc="-1" strike="noStrike">
                <a:solidFill>
                  <a:srgbClr val="000000"/>
                </a:solidFill>
                <a:latin typeface="Times New Roman"/>
              </a:rPr>
              <a:t>farbiges Licht</a:t>
            </a:r>
            <a:r>
              <a:rPr b="0" lang="de-DE" sz="1000" spc="-1" strike="noStrike">
                <a:solidFill>
                  <a:srgbClr val="000000"/>
                </a:solidFill>
                <a:latin typeface="Times New Roman"/>
              </a:rPr>
              <a:t> von </a:t>
            </a:r>
            <a:r>
              <a:rPr b="1" i="1" lang="de-DE" sz="1000" spc="-1" strike="noStrike">
                <a:solidFill>
                  <a:srgbClr val="000000"/>
                </a:solidFill>
                <a:latin typeface="Times New Roman"/>
              </a:rPr>
              <a:t>farbigen Stoffen</a:t>
            </a:r>
            <a:r>
              <a:rPr b="0" lang="de-DE" sz="1000" spc="-1" strike="noStrike">
                <a:solidFill>
                  <a:srgbClr val="000000"/>
                </a:solidFill>
                <a:latin typeface="Times New Roman"/>
              </a:rPr>
              <a:t> unterscheiden.</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m ersten Versuch durchsetzt weißes Licht </a:t>
            </a:r>
            <a:r>
              <a:rPr b="1" i="1" lang="de-DE" sz="1000" spc="-1" strike="noStrike">
                <a:solidFill>
                  <a:srgbClr val="000000"/>
                </a:solidFill>
                <a:latin typeface="Times New Roman"/>
              </a:rPr>
              <a:t>farbige Stoffe</a:t>
            </a:r>
            <a:r>
              <a:rPr b="0" lang="de-DE" sz="1000" spc="-1" strike="noStrike">
                <a:solidFill>
                  <a:srgbClr val="000000"/>
                </a:solidFill>
                <a:latin typeface="Times New Roman"/>
              </a:rPr>
              <a:t>, entweder nacheinander, oder eine Mischung derselben. Dabei werden den zuerst weißen Licht durch den Farbstoff bestimmte Anteile entzogen, so dass es seine Farbe ändert. Man spricht von subtraktiver Mischung – obwohl die Bezeichnung nicht ganz zutreffend ist – denn im allgemeinen ist a – b ja verschieden von b – a. Aber lassen wir es bei subtraktiv, der Name hat sich durchgesetzt.</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m zweiten Versuch werden nicht farbige Stoffe zusammengebracht, sondern farbige Lichter: Dem Licht der einen Farbe wird solches von anderer Farbe zugefügt, man spricht von additiver Mischung.</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ilfsmittel: 2 Plastikwännchen mit klarem Boden, Farbstoffe Tükis und Gelb, zwei Taschenspiegel</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ben wurden </a:t>
            </a:r>
            <a:r>
              <a:rPr b="0" i="1" lang="de-DE" sz="1200" spc="-1" strike="noStrike">
                <a:solidFill>
                  <a:srgbClr val="000000"/>
                </a:solidFill>
                <a:latin typeface="Times New Roman"/>
              </a:rPr>
              <a:t>zwei</a:t>
            </a:r>
            <a:r>
              <a:rPr b="0" lang="de-DE" sz="1200" spc="-1" strike="noStrike">
                <a:solidFill>
                  <a:srgbClr val="000000"/>
                </a:solidFill>
                <a:latin typeface="Times New Roman"/>
              </a:rPr>
              <a:t> Farben additiv gemischt. Nimmt man noch eine dritte dazu, z.B. rot, so kann man durch additive Mischung dieser drei Primärfarben eine erstaunliche Vielfalt von Farben erzeugen, besonders wenn man die Farben durch verschiedene´Spiegelstellungen kunstvoll dosie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ung von rot und blau erhält man verschiedene Purpurtöne die man heute Magenta nennt. Im Spektrum fehlen s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en von rot und grün erhält man gelb und orange. Das überrascht meist und ist zunächst mysteriö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en von grün und blau erhält man türkisblau – im Computerjargon Cyan. Das ist weniger überrasch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scht man alle drei so ergibt sich bei geeignetem Verhältnis wei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lfsmittel: Schablone mit 3 Primärfarben Rot, Grün,  Blau und zwei Spieg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infacher als mit Spiegeln und Overheadprojektor ließe sich diese Mischung mit 3 getrennten Projektoren zeigen, wenn man diese in der Helligkeit Stufenlos regeln könnte. Leider ist es aber nicht möglich, die Helligkeit der Projektoren durch Änderung der Betriebsspannung zu bewirken, weil sich dann nämlich die Farbtemperaturen der Projektoren änder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additive Mischung von farbigen Lichtern kann bekanntlich auch auf andere Weise geschehen: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Man kann die verschiedenfarbigen Lichter dem Auge nicht gleichzeitig darbieten wie eben, sondern in rascher Folge nacheinander in Form kurzer Lichtimpulse. Die rascher Folge führt auch dazu, dass die Farben für das Auge verschmelzen. Dazu verwendet man seit Alters her diese Farbkreisel, die es erlauben, die Intensitäten der einzelnen Anteile verschieden zu machen. Es geht auch auf dem OHP, man muß dann geeignete Sektorenfilter verwenden. Die Schüler überzeugt diese Art der Farbmischung kaum, sie akzeptieren die Mischung der Spektralfarben zu weiß nicht, sie werden immer sagen: das ist doch grau. Da geht es ihnen nicht anders als Goethe, der diesen Kreiselversuch auch gemacht hat und darauf an Eckermann sich in einem Brief ungefähr so äußert: </a:t>
            </a:r>
            <a:r>
              <a:rPr b="0" i="1" lang="de-DE" sz="1000" spc="-1" strike="noStrike">
                <a:solidFill>
                  <a:srgbClr val="000000"/>
                </a:solidFill>
                <a:latin typeface="Times New Roman"/>
                <a:ea typeface="Times New Roman"/>
              </a:rPr>
              <a:t>Ich möchte dem Herrn Newton einmal wünschen, dass er Unterwäsche von jenem trefflichen Weiß tragen müsste, das man am Farbkreisel zu sehen bekommt</a:t>
            </a:r>
            <a:r>
              <a:rPr b="0" lang="de-DE"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ersuch: Dass ein und derselbe Lichtreiz von unserem Auge, je nach Beleuchtung des Umfeldes ganz unterschiedlich          interpretiert  wird, zeigt  folgender  Versuch, bei dem  Weiß zu Schwarz wird und umgekehrt. Wir projiziere in einem gut verdunkelten Raum eine hell beleuchtete Lochblende. Sie sehen, sozusagen, den Vollmond im schwarzen Nachthimmel. Er ist weiß. Jetzt ändern wir das Umfeld des Mondes, indem wir den OHP dazu einschalten, der macht jetzt das Umfeld sehr hell. Den Mond selbst spart er aus, da liegt eine Münze passender Größe auf der Arbeitsplatte. Jedes mal, wenn man den OHP ein- oder ausschaltet, wechselt der Mond seine Farbe, obwohl an dem von der Mondscheibe ausgehenden Lichtreiz unverändert bleibt. Der Versuch lässt sich abwandeln. Man kann z.B. vor die Lochblende eine Rotscheibe setzen und auf den OHP ein Grünfilter legen. Dann wird beim Einschalten des OHP der vorher rote Mond plötzlich besonders an den Rändern flammend rot – man sieht sog. virtuelles Rot, ein Rot das so satt ist, wie es in Wirklichkeit nie vorkommt. Probieren sie es selber aus! Das hat mit der sog. Umstimmung des Auges zu tun, auf die werde ich später noch etwas eingehe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er erscheint mir für den Anfangsunterricht, dass noch eine dritte Art der additiven Mischung geklärt wird, nämlich die partitive Mischung durch farbige Pixel so dicht nebeneinander gesetzt werden, dass das Auge sie nicht mehr getrennt wahrnimm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ersuch: Auch dazu wieder ein Versuch mit dem OHP. Ich lege hier einen Farbkeil, gedruckt mit dem Inkjet auf Folie. Jetzt verwende ich den OHP in Verbindung einer Lupe. Das virtuelle Bild, welches die Lupe erzeugt, liegt bekanntlich hinter dem Gegenstand, deshalb muss das Objektiv jetzt heruntergedreht werden, damit ein scharfes Bild entsteht. Sie sehen, dass im OHP doch einiges an vielleicht noch nicht ganz ausgeschöpftem Potenzial enthäl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m einfachsten ist natürlich die partitive Mischung am Bildschirm des Fernsehers oder des RGB-Monitors zu demonstrieren. Der verwendet Pixel in den Primärfarben Rot, Grün und Blau, die sich in jeweils 256 verschiedenen Helligkeitsstufen einstellen lassen. Jeder Farbe entspricht ein Koordinaten-Tripel, man spricht von trichromatischen Koordinat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uf dem Bildschirm eines Computers lässt sich das sehr leicht zeigen:.Auf dem Monitor liegen winzig kleine Pixel in den Grundfarben rot, grün blau sehr dicht beieinander. Ihr Helligkeitswerte r, g b lassen sich jeweils in 256 Stufen von 0 – 255 einstell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3 Farbkreisel, Farbkeil, Lup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Bei moderneren RGB-Monitoren werden die runden Farbkleckse durch rechteckige Balken ersetzt. Das hat den Vorteil, dass die Leuchtdichte insgesamt größer wird, weil sich die Farbbalken dichter packen lassen als die runden Klecks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Zunächst kann man die drei Primärfarben einzeln in ihrer Helligkeit ändern, oder zu je zweien oder auch dreien. Wenn alle drei Primärfarben auf gleicher Helligkeitsstufe stehen, ergibt sich Weiß oder Grau, das wir in diesem Zusammenhang auch als Farbe gelten lassen wollen. Die wichtigsten anderen Farben entstehen durch Mischung von je zwei Primärfarben in gleicher Helligkeit: Gelb durch Mischung von rot und Grün, Magenta durch Mischung von rot und blau, Cyan durch Mischung von blau und grün. Diese Farben lassen sich in ihrer Helligkeit beeinflussen, wenn man die Helligkeitswerte der beiden Partner in gleichem Maß verminder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Schüler fragen immer nach dem Braun, das sie zunächst vermissen: Man kann leicht zeigen, wie es entsteht: Zunächst macht man helles Gelb, nimmt etwas grün heraus, so dass mehr Orange entsteht und geht nun mit der Helligkeit beider Partner herunter, wobei das Verhältnis erhalten bleib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 ist auch der Begriff der Farbsättigung, den an hier erklären kann: Man geht zunächst von mehr oder weniger weiß aus, z. B von 50% weiß und verstärkt nun z.B. das Rot: Es entsteht ungesättigtes Rot, auch Rosa genannt, oder man gibt rot und grün dazu, dann hat man ungesättigtes gelb. Im Alltag kommen voll gesättigte Farben eigentlich sehr selten vor. Zu sehen sind sie eigentlich nur im Spektrum, und auch da nur, wenn kein Raumlicht zugemischt wird – also nur in einem gut verdunkelten Raum. Je mehr weißes Licht einer Spektralfarbe beigemischt wird, desto ungesättigter erscheint si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Farbmixer gibt uns zwei Möglichkeiten, eine gewünschte Farbe einzustellen: Entweder mixt man die Farbe aus ihren RGB-Anteilen zusammen – dazu braucht man schon etwas Erfahrung, oder man geht ganz anders vor: Man wählt zunächst den Farbton, die Auswahl wird auf diesem Farbkreis angeboten, dann stellt man die gewünschte Sättigung ein und schließlich die richtige Helligkeit. Das ist vielleicht für den Anfang leicht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arbton, Sättigung und Helligkeit lassen sich quantitativ erfassen und bilden dann ebenfalls ein Koordinatensystem, welches den Farbraum auf andere Weise beschreibt  - man spricht von den sog. natürlichen Koordinaten, die wir freilich im Unterricht nicht so einfach quantitativ erfassen können; leichter tun wir uns da mit den sog. trichromatischen Koordinaten, die uns der Computer nahe leg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Veranschaulichung der dreidimensionalen Farbwelt dienen die so genannten Farbkörper. Es bieten sich verschiedene Gestalten an, je nach dem, von welchen Koordinaten man ausgeh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eht man von den natürlichen Koordinaten aus, so kommt man zu einer zylinderförmigen Darstellung der Farbwelt. Zunächst zeigt uns eine Kreisscheibe alle möglichen Farbtöne in der Reihenfolge des Spektrums, AnfangRot und Ende Violett überbrückt durch die Purpurtöne, die ja im Spektrum nicht vorkommen. Wir können nun in diesem Kreis die Sättigung nach innen hin abnehmen lassen, dann haben wir eine Kreisscheibe mit weißem Mittelpunkt und stark gesättigtem Rand. Diese Kreisscheibe können wir nun in einem dritten Schritt in verschiedenen Helligkeitsstufen zeichnen. Denken wir uns alle diese Kreisscheiben übereinander geschichtet, so entsteht der Farbzylin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eht man dagegen von den so genannten trichromatischen Koordinaten r, g, b aus, für die der Computer jeweils die ganzzahligen Werte 0 bis 255 zulässt, so kommt man auf eine würfelförmige Darstellung der Farbwelt. Jeden dieser 256^3 Farbpunkte trägt man in ein cartesisches Koordinatensystem ein. Die entstehenden farbigen Gitterpunkte erfüllen dann einen Würfel, den uns der Computer zeichnet. Wir können in den Würfel sogar hineinschauen, indem wir auf eine Seitenfläche klicken, dann wird ein Schnitt durch den Würfel gelegt, den wir rechts oben betrachten können. Führen wir die Maus über die Schnittfigur, so zeigt uns die symbolische Gleichung darunter, wie die Farbe an der Stelle des Mauszeigers sich additiv aus den drei Primärfarben zusammensetzt. Sie sehen: Ein Summand bleibt hier immer konstant, er ist durch den Schnitt festgelegt. Wir können aber auch andere Schnitte betr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Farbwürfel ist eine sehr praktische Erfindung: Sie können leicht nachrechnen, dass er 256^3 = 16 777 216 Farbpunkte enthält, und zwar in einer stetigen Anordnung, d.h. jeder Farbpunkt findet in seiner Umgebung nur ähnliche Farben, Sprünge treten nirgends auf. Wollte man jede dieser Farben nur auf einer kleinen Fläche von 1cm^2 darstellen, so bräuchte man dafür ein Plakat von ca. 41 m Seitenlänge, wenn man quadratisches Format wähl, außerdem wäre es recht schwierig, die  Stetigkeit in der Anordnung zu wahr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zu den Seitenflächen parallelen Schnittebenen des Würfels sehen zwar recht hübsch aus, keine zeigt uns aber alle Farbtöne auf einmal, so wie etwa der Farbzylinder, bei dem jeder Schnitt alle Farbvalenzen, allerdings in einer Helligkeitsstufe zeigt. Solche Schnitte gibt es auch beim Würfel. Legen wir nämlich durch die Ecken Rot, Grün und Blau eine Diagonalebene und schauen von der weißen Ecke her in Richtung der Raumdiagonalen Weiß-Schwarz auf den Schnitt, so sehen wir das sog. Farbdreieck. Es enthält alle Farbtöne in ähnlicher Anordnung wie der Farbkreis, in der Mitte die Farbe U = Unbunt, die in diesem Schnitt zu einem mittleren Grau wird. Die Ebenengleichung ist r+g+b = 255, die Summe der drei Einzelhelligkeiten ist also konstant. Eine Besonderheit dieses Dreiecks ist, dass der Schwerpunktssatz von Graßmann gilt: Mischt man zwei Farben F1 und F2 additiv, so findet sich die die Mischfarbe immer auf der Verbindungsstrecke F1F2, und zwar im Schwerpunkt der Strecke wenn man die Farben durch ihre Intensitäten gewichtet. Als Sonderfall ergibt sich daraus, dass zwei Farben, die symmetrisch zu U liegen zusammengemischt unbunt geben, also komplementär sind.</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r Computer kennt also16 777 216 verschiedene Einstellungen für die Farbe. Aber: Sind es für unser Auge auch so viele Farben, oder ist es vielleicht so, dass immer 10 benachbarte Einstellungen für unser Auge gleich aussehen, also ununterscheidbar si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r beantworten dieses Frage mit dem Programm Farbspion: Wir stellen uns vor, dass wir einen Beobachter an irgend einer Stelle des Farbwürfels aussetzten, z.B. an diese Stelle, oder auch dahin, wir können ihm eine beliebige Stelle im Würfel als Startposition zuweisen. Die Farbe an der Startposition sehen wir hier links. Dann sagen wir dem Spion, dass er sich in einem kleinen Bereich von der Startposition ausgehend bewegen soll und dabei die gesehen Farben ständig in das kleine Feld in der Mitte melden soll. Wie weit sich der Spion von der Startposition in jeder der drei positiven Koordinatenrichtungen entfernen darf, begrenzen wir mit diesem Schieber. Momentan sind es maximal 50 Schritte, und die Farben, die er bei seinen Erkundungsgängen sieht, wechseln ziemlich stark. Wenn wir dem Spion weniger Freiheit geben, z.B. nur 10 Schritte, dann sind die Farben die er meldet von der Startfarbe kaum mehr zu unterscheiden, besonders wenn wir einen schwarzen Rahmen dazwischenschieben.Wenn wir die Freiheit auf 2 Schritte beschränken, dann sind die unterschiede mit dem Rahmen nicht mehr zu erkennen, ohne Rahmen gerade noch. Das hängt natürlich auch von der Qualität des Bildschirmes ab. Wenn wir nur einen Schritt gestatten, ist ohne Rahmen und bei den besten Bildschirmen kein Unterschied mehr zu erkennen. Es ist also ein Würfel von  8 benachbarten Gitterpunkten, in dem die Farben für unser Auge keinen Unterschied mehr aufweisen. Setzen wir unseren Beobachter an eine andere Startposition, so sieht er natürlich eine andere Farbe, aber auch hier bemerken wir keinen Unterschied in den Farben, wenn der Spion nur zwischen 8 benachbarten Punkten springt. Gibt man dem Beobachter mehr Freiheit, so dass er zwischen den 3x3x3 = 27 Gitterpunkten eines Würfels der Kantenlänge 3 springen kann, so sehen wir wieder ein Flackern, also unterschiedliche Farb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479F20-FF70-4963-A2CF-21ED5FF8EA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FD6BD39-7ED3-4356-B38A-340A4DAF8B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E75AB15-517A-4802-BEF2-C274808BB0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2C29A49-BE23-42F2-9F4C-C24FDC455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A91F76E-B5D2-4925-85CD-88A600A41D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256BDB9-AF27-4EFB-BE69-A3C20E7C26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A20B830-B35E-46CF-83FB-D402822256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3E4C793-A642-48A7-932E-49AB4FF134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6676EEA-E0BB-4A69-AE54-69D4E30A01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3160915-E189-4B50-BC32-C00FB7CEAF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4D4F8AD-1F60-4BDD-9D72-1D02AD65A3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D1B0584-A4EB-460E-B033-D2365CCD81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7619760" y="6248520"/>
            <a:ext cx="10666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D35B-FDA0-467D-808A-C4764908C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IXER.EXE" TargetMode="External"/><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hyperlink" Target=".\SUBMI.EXE" TargetMode="External"/><Relationship Id="rId9" Type="http://schemas.openxmlformats.org/officeDocument/2006/relationships/image" Target="../media/image16.wmf"/><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Programme\FWAHRN.EXE" TargetMode="External"/><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hyperlink" Target=".\FMIXER.EXE" TargetMode="External"/><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arbw&#252;rfel.exe" TargetMode="External"/><Relationship Id="rId3" Type="http://schemas.openxmlformats.org/officeDocument/2006/relationships/hyperlink" Target=".\FZYLIND.exe" TargetMode="External"/><Relationship Id="rId4" Type="http://schemas.openxmlformats.org/officeDocument/2006/relationships/hyperlink" Target=".\Farbecke.exe" TargetMode="External"/><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Spion.exe" TargetMode="External"/><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6" name="SPEKTRUM"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rot="21586800">
            <a:off x="1065240" y="988920"/>
            <a:ext cx="64771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rbenlehre</a:t>
            </a:r>
            <a:br>
              <a:rPr sz="4000"/>
            </a:br>
            <a:r>
              <a:rPr b="0" lang="en-US" sz="4000" spc="-1" strike="noStrike">
                <a:solidFill>
                  <a:srgbClr val="000000"/>
                </a:solidFill>
                <a:latin typeface="Times New Roman"/>
              </a:rPr>
              <a:t>       aus der Sicht </a:t>
            </a:r>
            <a:br>
              <a:rPr sz="4000"/>
            </a:br>
            <a:r>
              <a:rPr b="0" lang="en-US" sz="4000" spc="-1" strike="noStrike">
                <a:solidFill>
                  <a:srgbClr val="000000"/>
                </a:solidFill>
                <a:latin typeface="Times New Roman"/>
              </a:rPr>
              <a:t>                       neuer Medien</a:t>
            </a:r>
            <a:endParaRPr b="0" lang="en-US" sz="4000" spc="-1" strike="noStrike">
              <a:solidFill>
                <a:srgbClr val="000000"/>
              </a:solidFill>
              <a:latin typeface="Times New Roman"/>
            </a:endParaRPr>
          </a:p>
        </p:txBody>
      </p:sp>
      <p:sp>
        <p:nvSpPr>
          <p:cNvPr id="48" name="PlaceHolder 2"/>
          <p:cNvSpPr>
            <a:spLocks noGrp="1"/>
          </p:cNvSpPr>
          <p:nvPr>
            <p:ph type="subTitle"/>
          </p:nvPr>
        </p:nvSpPr>
        <p:spPr>
          <a:xfrm>
            <a:off x="5333760" y="4419360"/>
            <a:ext cx="2895480" cy="10666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mut Dittmann</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aktik der Physik</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ät Erlange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838D024-E3BD-4892-9425-2CFA29AB02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2" name="HINTERGR"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e Antwort des Spions:</a:t>
            </a:r>
            <a:endParaRPr b="0" lang="en-US" sz="4400" spc="-1" strike="noStrike">
              <a:solidFill>
                <a:srgbClr val="000000"/>
              </a:solidFill>
              <a:latin typeface="Times New Roman"/>
            </a:endParaRPr>
          </a:p>
        </p:txBody>
      </p:sp>
      <p:sp>
        <p:nvSpPr>
          <p:cNvPr id="94" name=""/>
          <p:cNvSpPr/>
          <p:nvPr/>
        </p:nvSpPr>
        <p:spPr>
          <a:xfrm>
            <a:off x="990720" y="137160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n den 16 Millionen einstellbaren Farben des Monitors können jeweils 8 von unserem Auge nicht unterschieden werden.</a:t>
            </a:r>
            <a:endParaRPr b="0" lang="en-US" sz="2400" spc="-1" strike="noStrike">
              <a:solidFill>
                <a:srgbClr val="000000"/>
              </a:solidFill>
              <a:latin typeface="Times New Roman"/>
            </a:endParaRPr>
          </a:p>
        </p:txBody>
      </p:sp>
      <p:sp>
        <p:nvSpPr>
          <p:cNvPr id="95" name=""/>
          <p:cNvSpPr/>
          <p:nvPr/>
        </p:nvSpPr>
        <p:spPr>
          <a:xfrm>
            <a:off x="990720" y="25146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Farbraum des Monitors enthält also ca. 2 Millionen für unser Auge unterscheidbare Farben.</a:t>
            </a:r>
            <a:endParaRPr b="0" lang="en-US" sz="2400" spc="-1" strike="noStrike">
              <a:solidFill>
                <a:srgbClr val="000000"/>
              </a:solidFill>
              <a:latin typeface="Times New Roman"/>
            </a:endParaRPr>
          </a:p>
        </p:txBody>
      </p:sp>
      <p:sp>
        <p:nvSpPr>
          <p:cNvPr id="96" name=""/>
          <p:cNvSpPr/>
          <p:nvPr/>
        </p:nvSpPr>
        <p:spPr>
          <a:xfrm>
            <a:off x="990720" y="335268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llte man jede dieser Farben etwa 1 Sekunde auf dem Bildschirm betrachten, so bräuchte man dafür  556 Stunden, also mehr als 23 Tage.</a:t>
            </a:r>
            <a:endParaRPr b="0" lang="en-US" sz="2400" spc="-1" strike="noStrike">
              <a:solidFill>
                <a:srgbClr val="000000"/>
              </a:solidFill>
              <a:latin typeface="Times New Roman"/>
            </a:endParaRPr>
          </a:p>
        </p:txBody>
      </p:sp>
      <p:sp>
        <p:nvSpPr>
          <p:cNvPr id="97" name=""/>
          <p:cNvSpPr/>
          <p:nvPr/>
        </p:nvSpPr>
        <p:spPr>
          <a:xfrm>
            <a:off x="990720" y="464832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97A51B8-3311-4B58-A6E0-42C4CCCCE0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8" name="HINTERGR"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nn der Monitor alle Farben darstellen, die es gibt?</a:t>
            </a:r>
            <a:endParaRPr b="0" lang="en-US" sz="4400" spc="-1" strike="noStrike">
              <a:solidFill>
                <a:srgbClr val="000000"/>
              </a:solidFill>
              <a:latin typeface="Times New Roman"/>
            </a:endParaRPr>
          </a:p>
        </p:txBody>
      </p:sp>
      <p:sp>
        <p:nvSpPr>
          <p:cNvPr id="100" name=""/>
          <p:cNvSpPr/>
          <p:nvPr/>
        </p:nvSpPr>
        <p:spPr>
          <a:xfrm>
            <a:off x="1066680" y="2209680"/>
            <a:ext cx="70106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wort: Ne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fehlen die voll gesättigten Farb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n die Primärfarben R, G und Bdes Monitors sind nicht voll gesättigt, erst recht nicht die daraus gemischten Farb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 Rotwein</a:t>
            </a:r>
            <a:endParaRPr b="0" lang="en-US" sz="2400" spc="-1" strike="noStrike">
              <a:solidFill>
                <a:srgbClr val="000000"/>
              </a:solidFill>
              <a:latin typeface="Times New Roman"/>
            </a:endParaRPr>
          </a:p>
        </p:txBody>
      </p:sp>
      <p:sp>
        <p:nvSpPr>
          <p:cNvPr id="101" name="">
            <a:hlinkClick r:id="rId2"/>
          </p:cNvPr>
          <p:cNvSpPr/>
          <p:nvPr/>
        </p:nvSpPr>
        <p:spPr>
          <a:xfrm>
            <a:off x="5638680" y="5410080"/>
            <a:ext cx="2514600" cy="914400"/>
          </a:xfrm>
          <a:custGeom>
            <a:avLst/>
            <a:gdLst>
              <a:gd name="textAreaLeft" fmla="*/ 59040 w 2514600"/>
              <a:gd name="textAreaRight" fmla="*/ 2455560 w 2514600"/>
              <a:gd name="textAreaTop" fmla="*/ 59040 h 914400"/>
              <a:gd name="textAreaBottom" fmla="*/ 855360 h 914400"/>
            </a:gdLst>
            <a:ahLst/>
            <a:rect l="textAreaLeft" t="textAreaTop" r="textAreaRight" b="textAreaBottom"/>
            <a:pathLst>
              <a:path w="59385" h="21600">
                <a:moveTo>
                  <a:pt x="0" y="0"/>
                </a:moveTo>
                <a:lnTo>
                  <a:pt x="59385" y="0"/>
                </a:lnTo>
                <a:lnTo>
                  <a:pt x="59385" y="21600"/>
                </a:lnTo>
                <a:lnTo>
                  <a:pt x="0" y="21600"/>
                </a:lnTo>
                <a:close/>
              </a:path>
              <a:path fill="lightenLess" w="59385" h="21600">
                <a:moveTo>
                  <a:pt x="0" y="0"/>
                </a:moveTo>
                <a:lnTo>
                  <a:pt x="59385" y="0"/>
                </a:lnTo>
                <a:lnTo>
                  <a:pt x="57985" y="1400"/>
                </a:lnTo>
                <a:lnTo>
                  <a:pt x="1400" y="1400"/>
                </a:lnTo>
                <a:close/>
              </a:path>
              <a:path fill="darken" w="59385" h="21600">
                <a:moveTo>
                  <a:pt x="59385" y="0"/>
                </a:moveTo>
                <a:lnTo>
                  <a:pt x="59385" y="21600"/>
                </a:lnTo>
                <a:lnTo>
                  <a:pt x="57985" y="20200"/>
                </a:lnTo>
                <a:lnTo>
                  <a:pt x="57985" y="1400"/>
                </a:lnTo>
                <a:close/>
              </a:path>
              <a:path fill="darkenLess" w="59385" h="21600">
                <a:moveTo>
                  <a:pt x="59385" y="21600"/>
                </a:moveTo>
                <a:lnTo>
                  <a:pt x="0" y="21600"/>
                </a:lnTo>
                <a:lnTo>
                  <a:pt x="1400" y="20200"/>
                </a:lnTo>
                <a:lnTo>
                  <a:pt x="57985" y="20200"/>
                </a:lnTo>
                <a:close/>
              </a:path>
              <a:path fill="lighten" w="59385"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412AAA4-AD06-452C-9F32-5DB4DAE72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02" name="HINTERGR" descr=""/>
          <p:cNvPicPr/>
          <p:nvPr/>
        </p:nvPicPr>
        <p:blipFill>
          <a:blip r:embed="rId1"/>
          <a:stretch/>
        </p:blipFill>
        <p:spPr>
          <a:xfrm>
            <a:off x="0" y="0"/>
            <a:ext cx="9155160" cy="6858000"/>
          </a:xfrm>
          <a:prstGeom prst="rect">
            <a:avLst/>
          </a:prstGeom>
          <a:ln w="0">
            <a:noFill/>
          </a:ln>
        </p:spPr>
      </p:pic>
      <p:sp>
        <p:nvSpPr>
          <p:cNvPr id="103" name="PlaceHolder 1"/>
          <p:cNvSpPr>
            <a:spLocks noGrp="1"/>
          </p:cNvSpPr>
          <p:nvPr>
            <p:ph type="title"/>
          </p:nvPr>
        </p:nvSpPr>
        <p:spPr>
          <a:xfrm>
            <a:off x="5335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m Farbkreis zur Farbnormtafel</a:t>
            </a:r>
            <a:endParaRPr b="0" lang="en-US" sz="4400" spc="-1" strike="noStrike">
              <a:solidFill>
                <a:srgbClr val="000000"/>
              </a:solidFill>
              <a:latin typeface="Times New Roman"/>
            </a:endParaRPr>
          </a:p>
        </p:txBody>
      </p:sp>
      <p:pic>
        <p:nvPicPr>
          <p:cNvPr id="104" name="z4" descr=""/>
          <p:cNvPicPr/>
          <p:nvPr/>
        </p:nvPicPr>
        <p:blipFill>
          <a:blip r:embed="rId2"/>
          <a:stretch/>
        </p:blipFill>
        <p:spPr>
          <a:xfrm>
            <a:off x="4343400" y="1143000"/>
            <a:ext cx="4191120" cy="3998880"/>
          </a:xfrm>
          <a:prstGeom prst="rect">
            <a:avLst/>
          </a:prstGeom>
          <a:ln w="0">
            <a:noFill/>
          </a:ln>
        </p:spPr>
      </p:pic>
      <p:pic>
        <p:nvPicPr>
          <p:cNvPr id="105" name="ende" descr=""/>
          <p:cNvPicPr/>
          <p:nvPr/>
        </p:nvPicPr>
        <p:blipFill>
          <a:blip r:embed="rId3"/>
          <a:stretch/>
        </p:blipFill>
        <p:spPr>
          <a:xfrm>
            <a:off x="1143000" y="1219320"/>
            <a:ext cx="2301840" cy="2305080"/>
          </a:xfrm>
          <a:prstGeom prst="rect">
            <a:avLst/>
          </a:prstGeom>
          <a:ln w="0">
            <a:noFill/>
          </a:ln>
        </p:spPr>
      </p:pic>
      <p:sp>
        <p:nvSpPr>
          <p:cNvPr id="106" name=""/>
          <p:cNvSpPr/>
          <p:nvPr/>
        </p:nvSpPr>
        <p:spPr>
          <a:xfrm>
            <a:off x="1066680" y="3809880"/>
            <a:ext cx="32004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Für das Farbdreieck gilt der Schwer- punktsatz.</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er Farbkreis wird in der Normtafel zum Farbdreieck verzerrt.</a:t>
            </a:r>
            <a:endParaRPr b="0" lang="en-US" sz="1600" spc="-1" strike="noStrike">
              <a:solidFill>
                <a:srgbClr val="000000"/>
              </a:solidFill>
              <a:latin typeface="Times New Roman"/>
            </a:endParaRPr>
          </a:p>
        </p:txBody>
      </p:sp>
      <p:sp>
        <p:nvSpPr>
          <p:cNvPr id="107" name=""/>
          <p:cNvSpPr/>
          <p:nvPr/>
        </p:nvSpPr>
        <p:spPr>
          <a:xfrm>
            <a:off x="1143000" y="548640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Monitor des Computers kann nur die Farben innerhalb des Dreiecks darstellen; Farben mit höherer Sättigung kann er nicht zustande bringe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02A6440-24FA-4393-8021-813769FF03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08" name="hintergr."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762120" y="304920"/>
            <a:ext cx="487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rfarbendruck</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219320"/>
            <a:ext cx="4495680" cy="1371600"/>
          </a:xfrm>
          <a:prstGeom prst="rect">
            <a:avLst/>
          </a:prstGeom>
          <a:noFill/>
          <a:ln w="0">
            <a:noFill/>
          </a:ln>
        </p:spPr>
        <p:txBody>
          <a:bodyPr lIns="90000" rIns="90000" tIns="46800" bIns="46800" anchor="t">
            <a:normAutofit fontScale="8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ußer Schwarz werden verwende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yan, Magenta, Gelb.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 Transmissionskurven sehen im Idealfall so au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Cyan" descr=""/>
          <p:cNvPicPr/>
          <p:nvPr/>
        </p:nvPicPr>
        <p:blipFill>
          <a:blip r:embed="rId2"/>
          <a:stretch/>
        </p:blipFill>
        <p:spPr>
          <a:xfrm>
            <a:off x="533520" y="2895480"/>
            <a:ext cx="3200400" cy="1976400"/>
          </a:xfrm>
          <a:prstGeom prst="rect">
            <a:avLst/>
          </a:prstGeom>
          <a:ln w="0">
            <a:noFill/>
          </a:ln>
        </p:spPr>
      </p:pic>
      <p:pic>
        <p:nvPicPr>
          <p:cNvPr id="112" name="Gelb" descr=""/>
          <p:cNvPicPr/>
          <p:nvPr/>
        </p:nvPicPr>
        <p:blipFill>
          <a:blip r:embed="rId3"/>
          <a:stretch/>
        </p:blipFill>
        <p:spPr>
          <a:xfrm>
            <a:off x="5943600" y="2895480"/>
            <a:ext cx="2819520" cy="1981440"/>
          </a:xfrm>
          <a:prstGeom prst="rect">
            <a:avLst/>
          </a:prstGeom>
          <a:ln w="0">
            <a:noFill/>
          </a:ln>
        </p:spPr>
      </p:pic>
      <p:pic>
        <p:nvPicPr>
          <p:cNvPr id="113" name="Magenta" descr=""/>
          <p:cNvPicPr/>
          <p:nvPr/>
        </p:nvPicPr>
        <p:blipFill>
          <a:blip r:embed="rId4"/>
          <a:stretch/>
        </p:blipFill>
        <p:spPr>
          <a:xfrm>
            <a:off x="3124080" y="2895480"/>
            <a:ext cx="2971800" cy="1963800"/>
          </a:xfrm>
          <a:prstGeom prst="rect">
            <a:avLst/>
          </a:prstGeom>
          <a:ln w="0">
            <a:noFill/>
          </a:ln>
        </p:spPr>
      </p:pic>
      <p:pic>
        <p:nvPicPr>
          <p:cNvPr id="114" name="FKRECY" descr=""/>
          <p:cNvPicPr/>
          <p:nvPr/>
        </p:nvPicPr>
        <p:blipFill>
          <a:blip r:embed="rId5"/>
          <a:stretch/>
        </p:blipFill>
        <p:spPr>
          <a:xfrm>
            <a:off x="2362320" y="2971800"/>
            <a:ext cx="377640" cy="378000"/>
          </a:xfrm>
          <a:prstGeom prst="rect">
            <a:avLst/>
          </a:prstGeom>
          <a:ln w="0">
            <a:noFill/>
          </a:ln>
        </p:spPr>
      </p:pic>
      <p:pic>
        <p:nvPicPr>
          <p:cNvPr id="115" name="FKREGE" descr=""/>
          <p:cNvPicPr/>
          <p:nvPr/>
        </p:nvPicPr>
        <p:blipFill>
          <a:blip r:embed="rId6"/>
          <a:srcRect l="435" t="4349" r="0" b="0"/>
          <a:stretch/>
        </p:blipFill>
        <p:spPr>
          <a:xfrm>
            <a:off x="7315200" y="2971800"/>
            <a:ext cx="380880" cy="365040"/>
          </a:xfrm>
          <a:prstGeom prst="rect">
            <a:avLst/>
          </a:prstGeom>
          <a:ln w="0">
            <a:noFill/>
          </a:ln>
        </p:spPr>
      </p:pic>
      <p:pic>
        <p:nvPicPr>
          <p:cNvPr id="116" name="FKREMA" descr=""/>
          <p:cNvPicPr/>
          <p:nvPr/>
        </p:nvPicPr>
        <p:blipFill>
          <a:blip r:embed="rId7"/>
          <a:srcRect l="0" t="4349" r="0" b="0"/>
          <a:stretch/>
        </p:blipFill>
        <p:spPr>
          <a:xfrm>
            <a:off x="4495680" y="2971800"/>
            <a:ext cx="360360" cy="344520"/>
          </a:xfrm>
          <a:prstGeom prst="rect">
            <a:avLst/>
          </a:prstGeom>
          <a:ln w="0">
            <a:noFill/>
          </a:ln>
        </p:spPr>
      </p:pic>
      <p:sp>
        <p:nvSpPr>
          <p:cNvPr id="117" name=""/>
          <p:cNvSpPr/>
          <p:nvPr/>
        </p:nvSpPr>
        <p:spPr>
          <a:xfrm>
            <a:off x="685800" y="49528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rch paarweise subtraktive Verknüpfung ergeben sich wieder             Rot, Grün, Blau.</a:t>
            </a:r>
            <a:endParaRPr b="0" lang="en-US" sz="2400" spc="-1" strike="noStrike">
              <a:solidFill>
                <a:srgbClr val="000000"/>
              </a:solidFill>
              <a:latin typeface="Times New Roman"/>
            </a:endParaRPr>
          </a:p>
        </p:txBody>
      </p:sp>
      <p:sp>
        <p:nvSpPr>
          <p:cNvPr id="118" name="">
            <a:hlinkClick r:id="rId8"/>
          </p:cNvPr>
          <p:cNvSpPr/>
          <p:nvPr/>
        </p:nvSpPr>
        <p:spPr>
          <a:xfrm>
            <a:off x="7238880" y="5943600"/>
            <a:ext cx="1524240" cy="457200"/>
          </a:xfrm>
          <a:custGeom>
            <a:avLst/>
            <a:gdLst>
              <a:gd name="textAreaLeft" fmla="*/ 29520 w 1524240"/>
              <a:gd name="textAreaRight" fmla="*/ 1494720 w 1524240"/>
              <a:gd name="textAreaTop" fmla="*/ 29520 h 457200"/>
              <a:gd name="textAreaBottom" fmla="*/ 427680 h 457200"/>
            </a:gdLst>
            <a:ahLst/>
            <a:rect l="textAreaLeft" t="textAreaTop" r="textAreaRight" b="textAreaBottom"/>
            <a:pathLst>
              <a:path w="71972" h="21600">
                <a:moveTo>
                  <a:pt x="0" y="0"/>
                </a:moveTo>
                <a:lnTo>
                  <a:pt x="71972" y="0"/>
                </a:lnTo>
                <a:lnTo>
                  <a:pt x="71972" y="21600"/>
                </a:lnTo>
                <a:lnTo>
                  <a:pt x="0" y="21600"/>
                </a:lnTo>
                <a:close/>
              </a:path>
              <a:path fill="lightenLess" w="71972" h="21600">
                <a:moveTo>
                  <a:pt x="0" y="0"/>
                </a:moveTo>
                <a:lnTo>
                  <a:pt x="71972" y="0"/>
                </a:lnTo>
                <a:lnTo>
                  <a:pt x="70572" y="1400"/>
                </a:lnTo>
                <a:lnTo>
                  <a:pt x="1400" y="1400"/>
                </a:lnTo>
                <a:close/>
              </a:path>
              <a:path fill="darken" w="71972" h="21600">
                <a:moveTo>
                  <a:pt x="71972" y="0"/>
                </a:moveTo>
                <a:lnTo>
                  <a:pt x="71972" y="21600"/>
                </a:lnTo>
                <a:lnTo>
                  <a:pt x="70572" y="20200"/>
                </a:lnTo>
                <a:lnTo>
                  <a:pt x="70572" y="1400"/>
                </a:lnTo>
                <a:close/>
              </a:path>
              <a:path fill="darkenLess" w="71972" h="21600">
                <a:moveTo>
                  <a:pt x="71972" y="21600"/>
                </a:moveTo>
                <a:lnTo>
                  <a:pt x="0" y="21600"/>
                </a:lnTo>
                <a:lnTo>
                  <a:pt x="1400" y="20200"/>
                </a:lnTo>
                <a:lnTo>
                  <a:pt x="70572" y="20200"/>
                </a:lnTo>
                <a:close/>
              </a:path>
              <a:path fill="lighten" w="71972"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ubmi</a:t>
            </a:r>
            <a:endParaRPr b="0" lang="en-US" sz="2400" spc="-1" strike="noStrike">
              <a:solidFill>
                <a:srgbClr val="000000"/>
              </a:solidFill>
              <a:latin typeface="Times New Roman"/>
            </a:endParaRPr>
          </a:p>
        </p:txBody>
      </p:sp>
      <p:pic>
        <p:nvPicPr>
          <p:cNvPr id="119" name="" descr=""/>
          <p:cNvPicPr/>
          <p:nvPr/>
        </p:nvPicPr>
        <p:blipFill>
          <a:blip r:embed="rId9"/>
          <a:stretch/>
        </p:blipFill>
        <p:spPr>
          <a:xfrm>
            <a:off x="6248520" y="457200"/>
            <a:ext cx="2485800" cy="2373480"/>
          </a:xfrm>
          <a:prstGeom prst="rect">
            <a:avLst/>
          </a:prstGeom>
          <a:ln w="0">
            <a:noFill/>
          </a:ln>
        </p:spPr>
      </p:pic>
      <p:sp>
        <p:nvSpPr>
          <p:cNvPr id="4" name="PlaceHolder 3"/>
          <p:cNvSpPr>
            <a:spLocks noGrp="1"/>
          </p:cNvSpPr>
          <p:nvPr>
            <p:ph type="sldNum" idx="1"/>
          </p:nvPr>
        </p:nvSpPr>
        <p:spPr/>
        <p:txBody>
          <a:bodyPr/>
          <a:p>
            <a:fld id="{60ACF874-6A0C-4D25-A5AF-59B3A70739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0" name="hintergr." descr=""/>
          <p:cNvPicPr/>
          <p:nvPr/>
        </p:nvPicPr>
        <p:blipFill>
          <a:blip r:embed="rId1"/>
          <a:stretch/>
        </p:blipFill>
        <p:spPr>
          <a:xfrm>
            <a:off x="0" y="0"/>
            <a:ext cx="9144000" cy="7315200"/>
          </a:xfrm>
          <a:prstGeom prst="rect">
            <a:avLst/>
          </a:prstGeom>
          <a:ln w="0">
            <a:noFill/>
          </a:ln>
        </p:spPr>
      </p:pic>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Helmholtzsche Theorie der Farbwahrnehmung</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fontScale="80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Sorten von Farbrezeptoren auf der Netzhaut, die sog. Zapfen verursachen die Farbwahrnehmung:</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 Theorie kann einige interessante Experimente erklären:</a:t>
            </a:r>
            <a:endParaRPr b="0" lang="en-US" sz="3200" spc="-1" strike="noStrike">
              <a:solidFill>
                <a:srgbClr val="000000"/>
              </a:solidFill>
              <a:latin typeface="Times New Roman"/>
            </a:endParaRPr>
          </a:p>
        </p:txBody>
      </p:sp>
      <p:sp>
        <p:nvSpPr>
          <p:cNvPr id="123" name=""/>
          <p:cNvSpPr/>
          <p:nvPr/>
        </p:nvSpPr>
        <p:spPr>
          <a:xfrm>
            <a:off x="609480" y="4419720"/>
            <a:ext cx="7848720" cy="161244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bige Schatten</a:t>
            </a:r>
            <a:endParaRPr b="0" lang="en-US" sz="3200" spc="-1" strike="noStrike">
              <a:solidFill>
                <a:srgbClr val="000000"/>
              </a:solidFill>
              <a:latin typeface="Times New Roman"/>
            </a:endParaRPr>
          </a:p>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chbilder</a:t>
            </a:r>
            <a:endParaRPr b="0" lang="en-US" sz="3200" spc="-1" strike="noStrike">
              <a:solidFill>
                <a:srgbClr val="000000"/>
              </a:solidFill>
              <a:latin typeface="Times New Roman"/>
            </a:endParaRPr>
          </a:p>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mstimmung des Auges</a:t>
            </a:r>
            <a:endParaRPr b="0" lang="en-US" sz="3200" spc="-1" strike="noStrike">
              <a:solidFill>
                <a:srgbClr val="000000"/>
              </a:solidFill>
              <a:latin typeface="Times New Roman"/>
            </a:endParaRPr>
          </a:p>
        </p:txBody>
      </p:sp>
      <p:sp>
        <p:nvSpPr>
          <p:cNvPr id="124" name="">
            <a:hlinkClick r:id="rId2"/>
          </p:cNvPr>
          <p:cNvSpPr/>
          <p:nvPr/>
        </p:nvSpPr>
        <p:spPr>
          <a:xfrm>
            <a:off x="5791320" y="5410080"/>
            <a:ext cx="2438280" cy="609840"/>
          </a:xfrm>
          <a:custGeom>
            <a:avLst/>
            <a:gdLst>
              <a:gd name="textAreaLeft" fmla="*/ 39240 w 2438280"/>
              <a:gd name="textAreaRight" fmla="*/ 2399040 w 2438280"/>
              <a:gd name="textAreaTop" fmla="*/ 39240 h 609840"/>
              <a:gd name="textAreaBottom" fmla="*/ 570600 h 609840"/>
            </a:gdLst>
            <a:ahLst/>
            <a:rect l="textAreaLeft" t="textAreaTop" r="textAreaRight" b="textAreaBottom"/>
            <a:pathLst>
              <a:path w="86324" h="21600">
                <a:moveTo>
                  <a:pt x="0" y="0"/>
                </a:moveTo>
                <a:lnTo>
                  <a:pt x="86324" y="0"/>
                </a:lnTo>
                <a:lnTo>
                  <a:pt x="86324" y="21600"/>
                </a:lnTo>
                <a:lnTo>
                  <a:pt x="0" y="21600"/>
                </a:lnTo>
                <a:close/>
              </a:path>
              <a:path fill="lightenLess" w="86324" h="21600">
                <a:moveTo>
                  <a:pt x="0" y="0"/>
                </a:moveTo>
                <a:lnTo>
                  <a:pt x="86324" y="0"/>
                </a:lnTo>
                <a:lnTo>
                  <a:pt x="84924" y="1400"/>
                </a:lnTo>
                <a:lnTo>
                  <a:pt x="1400" y="1400"/>
                </a:lnTo>
                <a:close/>
              </a:path>
              <a:path fill="darken" w="86324" h="21600">
                <a:moveTo>
                  <a:pt x="86324" y="0"/>
                </a:moveTo>
                <a:lnTo>
                  <a:pt x="86324" y="21600"/>
                </a:lnTo>
                <a:lnTo>
                  <a:pt x="84924" y="20200"/>
                </a:lnTo>
                <a:lnTo>
                  <a:pt x="84924" y="1400"/>
                </a:lnTo>
                <a:close/>
              </a:path>
              <a:path fill="darkenLess" w="86324" h="21600">
                <a:moveTo>
                  <a:pt x="86324" y="21600"/>
                </a:moveTo>
                <a:lnTo>
                  <a:pt x="0" y="21600"/>
                </a:lnTo>
                <a:lnTo>
                  <a:pt x="1400" y="20200"/>
                </a:lnTo>
                <a:lnTo>
                  <a:pt x="84924" y="20200"/>
                </a:lnTo>
                <a:close/>
              </a:path>
              <a:path fill="lighten" w="86324"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bwahrnehmung</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2CADBAC-644C-44C8-BC45-E9B3699B72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5" name="hintergr."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rbe ist keine objektive Eigenschaft des Lichtes</a:t>
            </a:r>
            <a:endParaRPr b="0" lang="en-US" sz="4400" spc="-1" strike="noStrike">
              <a:solidFill>
                <a:srgbClr val="000000"/>
              </a:solidFill>
              <a:latin typeface="Times New Roman"/>
            </a:endParaRPr>
          </a:p>
        </p:txBody>
      </p:sp>
      <p:sp>
        <p:nvSpPr>
          <p:cNvPr id="127" name="PlaceHolder 2"/>
          <p:cNvSpPr>
            <a:spLocks noGrp="1"/>
          </p:cNvSpPr>
          <p:nvPr>
            <p:ph/>
          </p:nvPr>
        </p:nvSpPr>
        <p:spPr>
          <a:xfrm>
            <a:off x="914040" y="3886200"/>
            <a:ext cx="7924680" cy="2286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 hat zu unterscheiden: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rbreiz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Farbempfindu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ssbar                     nicht objektivierbar</a:t>
            </a:r>
            <a:endParaRPr b="0" lang="en-US" sz="3600" spc="-1" strike="noStrike">
              <a:solidFill>
                <a:srgbClr val="000000"/>
              </a:solidFill>
              <a:latin typeface="Times New Roman"/>
            </a:endParaRPr>
          </a:p>
        </p:txBody>
      </p:sp>
      <p:sp>
        <p:nvSpPr>
          <p:cNvPr id="128" name=""/>
          <p:cNvSpPr/>
          <p:nvPr/>
        </p:nvSpPr>
        <p:spPr>
          <a:xfrm>
            <a:off x="838080" y="213372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s gleiche Licht erscheint unserem Auge – je nach Umständen z.B. einmal weiß, ein andermal grü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57CB366-73A3-46A9-91F4-858F67BFDC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6919-07B8-42D6-91FC-8B20FC6DD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pic>
        <p:nvPicPr>
          <p:cNvPr id="131" name="SCHEIBE1" descr=""/>
          <p:cNvPicPr/>
          <p:nvPr/>
        </p:nvPicPr>
        <p:blipFill>
          <a:blip r:embed="rId1"/>
          <a:stretch/>
        </p:blipFill>
        <p:spPr>
          <a:xfrm>
            <a:off x="1338120" y="195120"/>
            <a:ext cx="6467760" cy="646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0B50-9509-4D32-B077-7B5CB4E0D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33" name="SCHEIBE2" descr=""/>
          <p:cNvPicPr/>
          <p:nvPr/>
        </p:nvPicPr>
        <p:blipFill>
          <a:blip r:embed="rId1"/>
          <a:stretch/>
        </p:blipFill>
        <p:spPr>
          <a:xfrm>
            <a:off x="1338120" y="195120"/>
            <a:ext cx="6467760" cy="6467760"/>
          </a:xfrm>
          <a:prstGeom prst="rect">
            <a:avLst/>
          </a:prstGeom>
          <a:ln w="0">
            <a:noFill/>
          </a:ln>
        </p:spPr>
      </p:pic>
      <p:sp>
        <p:nvSpPr>
          <p:cNvPr id="2" name="PlaceHolder 1"/>
          <p:cNvSpPr>
            <a:spLocks noGrp="1"/>
          </p:cNvSpPr>
          <p:nvPr>
            <p:ph type="sldNum" idx="1"/>
          </p:nvPr>
        </p:nvSpPr>
        <p:spPr/>
        <p:txBody>
          <a:bodyPr/>
          <a:p>
            <a:fld id="{B666CEB8-9258-47E2-A759-F939F9172C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4"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CFDA-9267-44D7-A400-4A855C101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pic>
        <p:nvPicPr>
          <p:cNvPr id="136" name="SCHEIBE1" descr=""/>
          <p:cNvPicPr/>
          <p:nvPr/>
        </p:nvPicPr>
        <p:blipFill>
          <a:blip r:embed="rId1"/>
          <a:stretch/>
        </p:blipFill>
        <p:spPr>
          <a:xfrm>
            <a:off x="1338120" y="195120"/>
            <a:ext cx="6467760" cy="646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9" name="hintergr."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s Spektrum des weißen Lichts</a:t>
            </a:r>
            <a:endParaRPr b="0" lang="en-US" sz="4400" spc="-1" strike="noStrike">
              <a:solidFill>
                <a:srgbClr val="000000"/>
              </a:solidFill>
              <a:latin typeface="Times New Roman"/>
            </a:endParaRPr>
          </a:p>
        </p:txBody>
      </p:sp>
      <p:sp>
        <p:nvSpPr>
          <p:cNvPr id="51" name="PlaceHolder 2"/>
          <p:cNvSpPr>
            <a:spLocks noGrp="1"/>
          </p:cNvSpPr>
          <p:nvPr>
            <p:ph/>
          </p:nvPr>
        </p:nvSpPr>
        <p:spPr>
          <a:xfrm>
            <a:off x="762120" y="2285640"/>
            <a:ext cx="7772400" cy="243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zeugung mit dem OH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einigung der Farben mit biegsamem Spieg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bige Lichter entstehen nicht durch „Anfärben“ von weißem Licht sondern durch Weglassen bestimmter Anteile des weißen Licht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D14F95B-7F0B-43C1-9A90-9805B7E4E3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37" name="HINTERGR"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ur Erklärung farbiger Schatten</a:t>
            </a:r>
            <a:endParaRPr b="0" lang="en-US" sz="4400" spc="-1" strike="noStrike">
              <a:solidFill>
                <a:srgbClr val="000000"/>
              </a:solidFill>
              <a:latin typeface="Times New Roman"/>
            </a:endParaRPr>
          </a:p>
        </p:txBody>
      </p:sp>
      <p:pic>
        <p:nvPicPr>
          <p:cNvPr id="139" name="Zeichnung1" descr=""/>
          <p:cNvPicPr/>
          <p:nvPr/>
        </p:nvPicPr>
        <p:blipFill>
          <a:blip r:embed="rId2"/>
          <a:stretch/>
        </p:blipFill>
        <p:spPr>
          <a:xfrm>
            <a:off x="1219320" y="1600200"/>
            <a:ext cx="7086600" cy="2895480"/>
          </a:xfrm>
          <a:prstGeom prst="rect">
            <a:avLst/>
          </a:prstGeom>
          <a:ln w="0">
            <a:noFill/>
          </a:ln>
        </p:spPr>
      </p:pic>
      <p:sp>
        <p:nvSpPr>
          <p:cNvPr id="140" name=""/>
          <p:cNvSpPr/>
          <p:nvPr/>
        </p:nvSpPr>
        <p:spPr>
          <a:xfrm>
            <a:off x="1143000" y="4572000"/>
            <a:ext cx="7162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Schirm erscheint in ungesättigtem Rot („Ros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 Auge wird dadurch „umgestimmt“: Die Sensibilität für Rot wird abgeschwächt. Weißes Licht erscheint grü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5D41856-C167-4FAB-9545-A5A3CCAFC1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41" name="hintergr." descr=""/>
          <p:cNvPicPr/>
          <p:nvPr/>
        </p:nvPicPr>
        <p:blipFill>
          <a:blip r:embed="rId1"/>
          <a:stretch/>
        </p:blipFill>
        <p:spPr>
          <a:xfrm>
            <a:off x="0" y="0"/>
            <a:ext cx="9296280" cy="6858000"/>
          </a:xfrm>
          <a:prstGeom prst="rect">
            <a:avLst/>
          </a:prstGeom>
          <a:ln w="0">
            <a:noFill/>
          </a:ln>
        </p:spPr>
      </p:pic>
      <p:sp>
        <p:nvSpPr>
          <p:cNvPr id="142"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Vielen Dank fürs Zuhören!</a:t>
            </a:r>
            <a:endParaRPr b="0" lang="en-US" sz="6000" spc="-1" strike="noStrike">
              <a:solidFill>
                <a:srgbClr val="000000"/>
              </a:solidFill>
              <a:latin typeface="Times New Roman"/>
            </a:endParaRPr>
          </a:p>
        </p:txBody>
      </p:sp>
      <p:sp>
        <p:nvSpPr>
          <p:cNvPr id="143" name=""/>
          <p:cNvSpPr/>
          <p:nvPr/>
        </p:nvSpPr>
        <p:spPr>
          <a:xfrm>
            <a:off x="1447920" y="4343400"/>
            <a:ext cx="6705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iteratur: Falk, Brill, Stork, Ein Blick ins Lic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irkhäuser Spring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B609B72-5251-4A44-B0B0-F6087529E52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2" name="hintergr."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s Mischen von Farben -</a:t>
            </a:r>
            <a:br>
              <a:rPr sz="4400"/>
            </a:br>
            <a:r>
              <a:rPr b="0" lang="en-US" sz="4400" spc="-1" strike="noStrike">
                <a:solidFill>
                  <a:srgbClr val="000000"/>
                </a:solidFill>
                <a:latin typeface="Times New Roman"/>
              </a:rPr>
              <a:t>ein kognitiver Konflikt</a:t>
            </a:r>
            <a:br>
              <a:rPr sz="4400"/>
            </a:br>
            <a:endParaRPr b="0" lang="en-US" sz="4400" spc="-1" strike="noStrike">
              <a:solidFill>
                <a:srgbClr val="000000"/>
              </a:solidFill>
              <a:latin typeface="Times New Roman"/>
            </a:endParaRPr>
          </a:p>
        </p:txBody>
      </p:sp>
      <p:sp>
        <p:nvSpPr>
          <p:cNvPr id="54" name="PlaceHolder 2"/>
          <p:cNvSpPr>
            <a:spLocks noGrp="1"/>
          </p:cNvSpPr>
          <p:nvPr>
            <p:ph/>
          </p:nvPr>
        </p:nvSpPr>
        <p:spPr>
          <a:xfrm>
            <a:off x="914400" y="4648320"/>
            <a:ext cx="7772400" cy="914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ve Mischu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bige </a:t>
            </a:r>
            <a:r>
              <a:rPr b="1" i="1" lang="en-US" sz="2400" spc="-1" strike="noStrike">
                <a:solidFill>
                  <a:srgbClr val="000000"/>
                </a:solidFill>
                <a:latin typeface="Times New Roman"/>
              </a:rPr>
              <a:t>Lichter</a:t>
            </a:r>
            <a:r>
              <a:rPr b="0" i="1" lang="en-US" sz="2400" spc="-1" strike="noStrike">
                <a:solidFill>
                  <a:srgbClr val="000000"/>
                </a:solidFill>
                <a:latin typeface="Times New Roman"/>
              </a:rPr>
              <a:t>  </a:t>
            </a:r>
            <a:r>
              <a:rPr b="0" lang="en-US" sz="2400" spc="-1" strike="noStrike">
                <a:solidFill>
                  <a:srgbClr val="000000"/>
                </a:solidFill>
                <a:latin typeface="Times New Roman"/>
              </a:rPr>
              <a:t>werden gemischt.</a:t>
            </a:r>
            <a:endParaRPr b="0" lang="en-US" sz="2400" spc="-1" strike="noStrike">
              <a:solidFill>
                <a:srgbClr val="000000"/>
              </a:solidFill>
              <a:latin typeface="Times New Roman"/>
            </a:endParaRPr>
          </a:p>
        </p:txBody>
      </p:sp>
      <p:sp>
        <p:nvSpPr>
          <p:cNvPr id="55" name=""/>
          <p:cNvSpPr/>
          <p:nvPr/>
        </p:nvSpPr>
        <p:spPr>
          <a:xfrm>
            <a:off x="838080" y="3124080"/>
            <a:ext cx="72392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ubtraktive Misch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eißes Licht durchsetzt </a:t>
            </a:r>
            <a:r>
              <a:rPr b="1" i="1" lang="de-DE" sz="2400" spc="-1" strike="noStrike">
                <a:solidFill>
                  <a:srgbClr val="000000"/>
                </a:solidFill>
                <a:latin typeface="Times New Roman"/>
              </a:rPr>
              <a:t>farbige Stoffe</a:t>
            </a:r>
            <a:r>
              <a:rPr b="0" lang="de-DE" sz="2400" spc="-1" strike="noStrike">
                <a:solidFill>
                  <a:srgbClr val="000000"/>
                </a:solidFill>
                <a:latin typeface="Times New Roman"/>
              </a:rPr>
              <a:t>, entweder nacheinander, oder eine Mischung derselben</a:t>
            </a:r>
            <a:endParaRPr b="0" lang="en-US" sz="2400" spc="-1" strike="noStrike">
              <a:solidFill>
                <a:srgbClr val="000000"/>
              </a:solidFill>
              <a:latin typeface="Times New Roman"/>
            </a:endParaRPr>
          </a:p>
        </p:txBody>
      </p:sp>
      <p:sp>
        <p:nvSpPr>
          <p:cNvPr id="56" name=""/>
          <p:cNvSpPr/>
          <p:nvPr/>
        </p:nvSpPr>
        <p:spPr>
          <a:xfrm>
            <a:off x="838080" y="1600200"/>
            <a:ext cx="7010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arbe“ und „Farbe“ ist nicht immer das glei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 muss </a:t>
            </a:r>
            <a:r>
              <a:rPr b="1" i="1" lang="en-US" sz="2400" spc="-1" strike="noStrike">
                <a:solidFill>
                  <a:srgbClr val="000000"/>
                </a:solidFill>
                <a:latin typeface="Times New Roman"/>
              </a:rPr>
              <a:t>farbiges Licht</a:t>
            </a:r>
            <a:r>
              <a:rPr b="0" lang="en-US" sz="2400" spc="-1" strike="noStrike">
                <a:solidFill>
                  <a:srgbClr val="000000"/>
                </a:solidFill>
                <a:latin typeface="Times New Roman"/>
              </a:rPr>
              <a:t> von </a:t>
            </a:r>
            <a:r>
              <a:rPr b="1" i="1" lang="en-US" sz="2400" spc="-1" strike="noStrike">
                <a:solidFill>
                  <a:srgbClr val="000000"/>
                </a:solidFill>
                <a:latin typeface="Times New Roman"/>
              </a:rPr>
              <a:t>farbigen Stoffen</a:t>
            </a:r>
            <a:r>
              <a:rPr b="0" lang="en-US" sz="2400" spc="-1" strike="noStrike">
                <a:solidFill>
                  <a:srgbClr val="000000"/>
                </a:solidFill>
                <a:latin typeface="Times New Roman"/>
              </a:rPr>
              <a:t> unterscheide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2D5AE4B-9CBB-4591-9F9F-B386B7F176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7" name="hintergr."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4568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e Erzeugung eines Farbraumes aus drei Grundfarben</a:t>
            </a:r>
            <a:endParaRPr b="0" lang="en-US" sz="4800" spc="-1" strike="noStrike">
              <a:solidFill>
                <a:srgbClr val="000000"/>
              </a:solidFill>
              <a:latin typeface="Times New Roman"/>
            </a:endParaRPr>
          </a:p>
        </p:txBody>
      </p:sp>
      <p:sp>
        <p:nvSpPr>
          <p:cNvPr id="59" name="PlaceHolder 2"/>
          <p:cNvSpPr>
            <a:spLocks noGrp="1"/>
          </p:cNvSpPr>
          <p:nvPr>
            <p:ph/>
          </p:nvPr>
        </p:nvSpPr>
        <p:spPr>
          <a:xfrm>
            <a:off x="457200" y="1828440"/>
            <a:ext cx="8305920" cy="1600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urch additive Mischung von drei Primärlichtern in verschiedenen Intensitäten lässt sich ein dreidimensionaler Farbraum aufbauen.</a:t>
            </a:r>
            <a:endParaRPr b="0" lang="en-US" sz="3200" spc="-1" strike="noStrike">
              <a:solidFill>
                <a:srgbClr val="000000"/>
              </a:solidFill>
              <a:latin typeface="Times New Roman"/>
            </a:endParaRPr>
          </a:p>
        </p:txBody>
      </p:sp>
      <p:sp>
        <p:nvSpPr>
          <p:cNvPr id="60" name=""/>
          <p:cNvSpPr/>
          <p:nvPr/>
        </p:nvSpPr>
        <p:spPr>
          <a:xfrm>
            <a:off x="609480" y="4800600"/>
            <a:ext cx="815364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onders groß wird dieser Farbraum, wenn man als Primärlichter Rot, Grün und Blau verwende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 name=""/>
          <p:cNvSpPr/>
          <p:nvPr/>
        </p:nvSpPr>
        <p:spPr>
          <a:xfrm>
            <a:off x="533520" y="350532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Als Hilfsmittel zum Mischen kann der Tages-lichtprojektor diene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0CD2EC7-A83A-4A8D-B4D0-B39CFE970A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62" name="hintergr."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440" y="380520"/>
            <a:ext cx="7467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Times New Roman"/>
              </a:rPr>
              <a:t>Additive Mischung anders -</a:t>
            </a:r>
            <a:br>
              <a:rPr sz="4800"/>
            </a:br>
            <a:r>
              <a:rPr b="0" lang="de-DE" sz="4800" spc="-1" strike="noStrike">
                <a:solidFill>
                  <a:srgbClr val="000000"/>
                </a:solidFill>
                <a:latin typeface="Times New Roman"/>
              </a:rPr>
              <a:t>Trichromatische Koordinaten</a:t>
            </a:r>
            <a:endParaRPr b="0" lang="en-US" sz="4800" spc="-1" strike="noStrike">
              <a:solidFill>
                <a:srgbClr val="000000"/>
              </a:solidFill>
              <a:latin typeface="Times New Roman"/>
            </a:endParaRPr>
          </a:p>
        </p:txBody>
      </p:sp>
      <p:sp>
        <p:nvSpPr>
          <p:cNvPr id="64" name=""/>
          <p:cNvSpPr/>
          <p:nvPr/>
        </p:nvSpPr>
        <p:spPr>
          <a:xfrm>
            <a:off x="609480" y="4114800"/>
            <a:ext cx="8001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er RGB-Monitor des Computers verwendet Pixel in den Primärfarben Rot, Grün, Blau in den Helligkeitsstufen    r, g, b      0 bis 255 .  </a:t>
            </a:r>
            <a:endParaRPr b="0" lang="en-US" sz="3200" spc="-1" strike="noStrike">
              <a:solidFill>
                <a:srgbClr val="000000"/>
              </a:solidFill>
              <a:latin typeface="Times New Roman"/>
            </a:endParaRPr>
          </a:p>
        </p:txBody>
      </p:sp>
      <p:sp>
        <p:nvSpPr>
          <p:cNvPr id="65" name=""/>
          <p:cNvSpPr/>
          <p:nvPr/>
        </p:nvSpPr>
        <p:spPr>
          <a:xfrm>
            <a:off x="609480" y="1752480"/>
            <a:ext cx="81536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ie additive Mischung von Lichtreizen kann auf 3 verschiedene Arten geschehe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 </a:t>
            </a:r>
            <a:r>
              <a:rPr b="0" lang="de-DE" sz="3200" spc="-1" strike="noStrike">
                <a:solidFill>
                  <a:srgbClr val="000000"/>
                </a:solidFill>
                <a:latin typeface="Times New Roman"/>
              </a:rPr>
              <a:t>simultan   sequentiell (Kreisel!)  partitiv (Pixel)</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0C860E3-E646-465B-9D04-D90E80FCAE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C156-B541-4729-8FB4-514B54743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60912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arbdarstellung am RGB-Monitor</a:t>
            </a:r>
            <a:endParaRPr b="0" lang="en-US" sz="4400" spc="-1" strike="noStrike">
              <a:solidFill>
                <a:srgbClr val="000000"/>
              </a:solidFill>
              <a:latin typeface="Times New Roman"/>
            </a:endParaRPr>
          </a:p>
        </p:txBody>
      </p:sp>
      <p:pic>
        <p:nvPicPr>
          <p:cNvPr id="68" name="SLITMASK" descr=""/>
          <p:cNvPicPr/>
          <p:nvPr/>
        </p:nvPicPr>
        <p:blipFill>
          <a:blip r:embed="rId1"/>
          <a:stretch/>
        </p:blipFill>
        <p:spPr>
          <a:xfrm>
            <a:off x="609480" y="1676520"/>
            <a:ext cx="4337280" cy="4336920"/>
          </a:xfrm>
          <a:prstGeom prst="rect">
            <a:avLst/>
          </a:prstGeom>
          <a:ln w="0">
            <a:noFill/>
          </a:ln>
        </p:spPr>
      </p:pic>
      <p:pic>
        <p:nvPicPr>
          <p:cNvPr id="69" name="SLITMASK" descr=""/>
          <p:cNvPicPr/>
          <p:nvPr/>
        </p:nvPicPr>
        <p:blipFill>
          <a:blip r:embed="rId2"/>
          <a:stretch/>
        </p:blipFill>
        <p:spPr>
          <a:xfrm>
            <a:off x="5105520" y="1676520"/>
            <a:ext cx="2173320" cy="2173320"/>
          </a:xfrm>
          <a:prstGeom prst="rect">
            <a:avLst/>
          </a:prstGeom>
          <a:ln w="0">
            <a:noFill/>
          </a:ln>
        </p:spPr>
      </p:pic>
      <p:pic>
        <p:nvPicPr>
          <p:cNvPr id="70" name="SLITMASK" descr=""/>
          <p:cNvPicPr/>
          <p:nvPr/>
        </p:nvPicPr>
        <p:blipFill>
          <a:blip r:embed="rId3"/>
          <a:stretch/>
        </p:blipFill>
        <p:spPr>
          <a:xfrm>
            <a:off x="7543800" y="1676520"/>
            <a:ext cx="1093680" cy="1093680"/>
          </a:xfrm>
          <a:prstGeom prst="rect">
            <a:avLst/>
          </a:prstGeom>
          <a:ln w="0">
            <a:noFill/>
          </a:ln>
        </p:spPr>
      </p:pic>
      <p:sp>
        <p:nvSpPr>
          <p:cNvPr id="71" name="">
            <a:hlinkClick r:id="rId4"/>
          </p:cNvPr>
          <p:cNvSpPr/>
          <p:nvPr/>
        </p:nvSpPr>
        <p:spPr>
          <a:xfrm>
            <a:off x="5410080" y="4876920"/>
            <a:ext cx="3048120" cy="914400"/>
          </a:xfrm>
          <a:custGeom>
            <a:avLst/>
            <a:gdLst>
              <a:gd name="textAreaLeft" fmla="*/ 59040 w 3048120"/>
              <a:gd name="textAreaRight" fmla="*/ 2989080 w 3048120"/>
              <a:gd name="textAreaTop" fmla="*/ 59040 h 914400"/>
              <a:gd name="textAreaBottom" fmla="*/ 855360 h 914400"/>
            </a:gdLst>
            <a:ahLst/>
            <a:rect l="textAreaLeft" t="textAreaTop" r="textAreaRight" b="textAreaBottom"/>
            <a:pathLst>
              <a:path w="71983" h="21600">
                <a:moveTo>
                  <a:pt x="0" y="0"/>
                </a:moveTo>
                <a:lnTo>
                  <a:pt x="71983" y="0"/>
                </a:lnTo>
                <a:lnTo>
                  <a:pt x="71983" y="21600"/>
                </a:lnTo>
                <a:lnTo>
                  <a:pt x="0" y="21600"/>
                </a:lnTo>
                <a:close/>
              </a:path>
              <a:path fill="lightenLess" w="71983" h="21600">
                <a:moveTo>
                  <a:pt x="0" y="0"/>
                </a:moveTo>
                <a:lnTo>
                  <a:pt x="71983" y="0"/>
                </a:lnTo>
                <a:lnTo>
                  <a:pt x="70583" y="1400"/>
                </a:lnTo>
                <a:lnTo>
                  <a:pt x="1400" y="1400"/>
                </a:lnTo>
                <a:close/>
              </a:path>
              <a:path fill="darken" w="71983" h="21600">
                <a:moveTo>
                  <a:pt x="71983" y="0"/>
                </a:moveTo>
                <a:lnTo>
                  <a:pt x="71983" y="21600"/>
                </a:lnTo>
                <a:lnTo>
                  <a:pt x="70583" y="20200"/>
                </a:lnTo>
                <a:lnTo>
                  <a:pt x="70583" y="1400"/>
                </a:lnTo>
                <a:close/>
              </a:path>
              <a:path fill="darkenLess" w="71983" h="21600">
                <a:moveTo>
                  <a:pt x="71983" y="21600"/>
                </a:moveTo>
                <a:lnTo>
                  <a:pt x="0" y="21600"/>
                </a:lnTo>
                <a:lnTo>
                  <a:pt x="1400" y="20200"/>
                </a:lnTo>
                <a:lnTo>
                  <a:pt x="70583" y="20200"/>
                </a:lnTo>
                <a:close/>
              </a:path>
              <a:path fill="lighten" w="71983"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bmix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72" name="hintergr." descr=""/>
          <p:cNvPicPr/>
          <p:nvPr/>
        </p:nvPicPr>
        <p:blipFill>
          <a:blip r:embed="rId1"/>
          <a:stretch/>
        </p:blipFill>
        <p:spPr>
          <a:xfrm>
            <a:off x="0" y="0"/>
            <a:ext cx="9144000" cy="6858000"/>
          </a:xfrm>
          <a:prstGeom prst="rect">
            <a:avLst/>
          </a:prstGeom>
          <a:ln w="0">
            <a:noFill/>
          </a:ln>
        </p:spPr>
      </p:pic>
      <p:pic>
        <p:nvPicPr>
          <p:cNvPr id="73" name="hintgrau" descr=""/>
          <p:cNvPicPr/>
          <p:nvPr/>
        </p:nvPicPr>
        <p:blipFill>
          <a:blip r:embed="rId2"/>
          <a:stretch/>
        </p:blipFill>
        <p:spPr>
          <a:xfrm>
            <a:off x="5105520" y="2209680"/>
            <a:ext cx="3809880" cy="2438640"/>
          </a:xfrm>
          <a:prstGeom prst="rect">
            <a:avLst/>
          </a:prstGeom>
          <a:ln w="0">
            <a:noFill/>
          </a:ln>
        </p:spPr>
      </p:pic>
      <p:sp>
        <p:nvSpPr>
          <p:cNvPr id="74" name="PlaceHolder 1"/>
          <p:cNvSpPr>
            <a:spLocks noGrp="1"/>
          </p:cNvSpPr>
          <p:nvPr>
            <p:ph type="title"/>
          </p:nvPr>
        </p:nvSpPr>
        <p:spPr>
          <a:xfrm>
            <a:off x="609120" y="4568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e drei „natürlichen“ Koordinaten der Farbe:</a:t>
            </a:r>
            <a:endParaRPr b="0" lang="en-US" sz="4000" spc="-1" strike="noStrike">
              <a:solidFill>
                <a:srgbClr val="000000"/>
              </a:solidFill>
              <a:latin typeface="Times New Roman"/>
            </a:endParaRPr>
          </a:p>
        </p:txBody>
      </p:sp>
      <p:sp>
        <p:nvSpPr>
          <p:cNvPr id="75" name="PlaceHolder 2"/>
          <p:cNvSpPr>
            <a:spLocks noGrp="1"/>
          </p:cNvSpPr>
          <p:nvPr>
            <p:ph/>
          </p:nvPr>
        </p:nvSpPr>
        <p:spPr>
          <a:xfrm>
            <a:off x="304560" y="2362320"/>
            <a:ext cx="4800600" cy="21333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rbton (Wellenläng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ättigung (Weißanteil)</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lligkeit (Leistu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6" name="STUFBLge" descr=""/>
          <p:cNvPicPr/>
          <p:nvPr/>
        </p:nvPicPr>
        <p:blipFill>
          <a:blip r:embed="rId3"/>
          <a:stretch/>
        </p:blipFill>
        <p:spPr>
          <a:xfrm>
            <a:off x="5257800" y="3200400"/>
            <a:ext cx="3505320" cy="533520"/>
          </a:xfrm>
          <a:prstGeom prst="rect">
            <a:avLst/>
          </a:prstGeom>
          <a:ln w="0">
            <a:noFill/>
          </a:ln>
        </p:spPr>
      </p:pic>
      <p:pic>
        <p:nvPicPr>
          <p:cNvPr id="77" name="YHELLST" descr=""/>
          <p:cNvPicPr/>
          <p:nvPr/>
        </p:nvPicPr>
        <p:blipFill>
          <a:blip r:embed="rId4"/>
          <a:stretch/>
        </p:blipFill>
        <p:spPr>
          <a:xfrm>
            <a:off x="5257800" y="3886200"/>
            <a:ext cx="3517920" cy="539640"/>
          </a:xfrm>
          <a:prstGeom prst="rect">
            <a:avLst/>
          </a:prstGeom>
          <a:ln w="0">
            <a:noFill/>
          </a:ln>
        </p:spPr>
      </p:pic>
      <p:sp>
        <p:nvSpPr>
          <p:cNvPr id="78" name=""/>
          <p:cNvSpPr/>
          <p:nvPr/>
        </p:nvSpPr>
        <p:spPr>
          <a:xfrm>
            <a:off x="609480" y="480060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r Farbraum ist dreidimensional.</a:t>
            </a:r>
            <a:endParaRPr b="0" lang="en-US" sz="3600" spc="-1" strike="noStrike">
              <a:solidFill>
                <a:srgbClr val="000000"/>
              </a:solidFill>
              <a:latin typeface="Times New Roman"/>
            </a:endParaRPr>
          </a:p>
        </p:txBody>
      </p:sp>
      <p:pic>
        <p:nvPicPr>
          <p:cNvPr id="79" name="SPEKTRUEr" descr=""/>
          <p:cNvPicPr/>
          <p:nvPr/>
        </p:nvPicPr>
        <p:blipFill>
          <a:blip r:embed="rId5"/>
          <a:stretch/>
        </p:blipFill>
        <p:spPr>
          <a:xfrm>
            <a:off x="5257800" y="2362320"/>
            <a:ext cx="3505320" cy="609480"/>
          </a:xfrm>
          <a:prstGeom prst="rect">
            <a:avLst/>
          </a:prstGeom>
          <a:ln w="0">
            <a:noFill/>
          </a:ln>
        </p:spPr>
      </p:pic>
      <p:sp>
        <p:nvSpPr>
          <p:cNvPr id="4" name="PlaceHolder 3"/>
          <p:cNvSpPr>
            <a:spLocks noGrp="1"/>
          </p:cNvSpPr>
          <p:nvPr>
            <p:ph type="sldNum" idx="1"/>
          </p:nvPr>
        </p:nvSpPr>
        <p:spPr/>
        <p:txBody>
          <a:bodyPr/>
          <a:p>
            <a:fld id="{5850009B-322E-45D2-B8C3-FB869C1E98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80" name="HINTERGR"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arbkörper</a:t>
            </a:r>
            <a:endParaRPr b="0" lang="en-US" sz="4800" spc="-1" strike="noStrike">
              <a:solidFill>
                <a:srgbClr val="000000"/>
              </a:solidFill>
              <a:latin typeface="Times New Roman"/>
            </a:endParaRPr>
          </a:p>
        </p:txBody>
      </p:sp>
      <p:sp>
        <p:nvSpPr>
          <p:cNvPr id="82" name="PlaceHolder 2"/>
          <p:cNvSpPr>
            <a:spLocks noGrp="1"/>
          </p:cNvSpPr>
          <p:nvPr>
            <p:ph/>
          </p:nvPr>
        </p:nvSpPr>
        <p:spPr>
          <a:xfrm>
            <a:off x="380880" y="1676520"/>
            <a:ext cx="601992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Farbzylinder: Anordnung der Farben gemäß der natürlichen Koordinaten Farbton, Sättigung, Helligke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Farbwürfel: Anordnung nach trichromatischen Koordinaten r,g,b. Jede Farbe F(r,g,b) wird durch einen Punkt in einem cartesischen Koordinatensystem dargestellt. </a:t>
            </a:r>
            <a:endParaRPr b="0" lang="en-US" sz="3200" spc="-1" strike="noStrike">
              <a:solidFill>
                <a:srgbClr val="000000"/>
              </a:solidFill>
              <a:latin typeface="Times New Roman"/>
            </a:endParaRPr>
          </a:p>
        </p:txBody>
      </p:sp>
      <p:sp>
        <p:nvSpPr>
          <p:cNvPr id="83" name="">
            <a:hlinkClick r:id="rId2"/>
          </p:cNvPr>
          <p:cNvSpPr/>
          <p:nvPr/>
        </p:nvSpPr>
        <p:spPr>
          <a:xfrm>
            <a:off x="6553080" y="43434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ürfel</a:t>
            </a:r>
            <a:endParaRPr b="0" lang="en-US" sz="2400" spc="-1" strike="noStrike">
              <a:solidFill>
                <a:srgbClr val="000000"/>
              </a:solidFill>
              <a:latin typeface="Times New Roman"/>
            </a:endParaRPr>
          </a:p>
        </p:txBody>
      </p:sp>
      <p:sp>
        <p:nvSpPr>
          <p:cNvPr id="84" name="">
            <a:hlinkClick r:id="rId3"/>
          </p:cNvPr>
          <p:cNvSpPr/>
          <p:nvPr/>
        </p:nvSpPr>
        <p:spPr>
          <a:xfrm>
            <a:off x="6477120" y="2057400"/>
            <a:ext cx="2057400" cy="762120"/>
          </a:xfrm>
          <a:custGeom>
            <a:avLst/>
            <a:gdLst>
              <a:gd name="textAreaLeft" fmla="*/ 49320 w 2057400"/>
              <a:gd name="textAreaRight" fmla="*/ 2008080 w 2057400"/>
              <a:gd name="textAreaTop" fmla="*/ 49320 h 762120"/>
              <a:gd name="textAreaBottom" fmla="*/ 712800 h 762120"/>
            </a:gdLst>
            <a:ahLst/>
            <a:rect l="textAreaLeft" t="textAreaTop" r="textAreaRight" b="textAreaBottom"/>
            <a:pathLst>
              <a:path w="58293" h="21600">
                <a:moveTo>
                  <a:pt x="0" y="0"/>
                </a:moveTo>
                <a:lnTo>
                  <a:pt x="58293" y="0"/>
                </a:lnTo>
                <a:lnTo>
                  <a:pt x="58293" y="21600"/>
                </a:lnTo>
                <a:lnTo>
                  <a:pt x="0" y="21600"/>
                </a:lnTo>
                <a:close/>
              </a:path>
              <a:path fill="lightenLess" w="58293" h="21600">
                <a:moveTo>
                  <a:pt x="0" y="0"/>
                </a:moveTo>
                <a:lnTo>
                  <a:pt x="58293" y="0"/>
                </a:lnTo>
                <a:lnTo>
                  <a:pt x="56894" y="1400"/>
                </a:lnTo>
                <a:lnTo>
                  <a:pt x="1400" y="1400"/>
                </a:lnTo>
                <a:close/>
              </a:path>
              <a:path fill="darken" w="58293" h="21600">
                <a:moveTo>
                  <a:pt x="58293" y="0"/>
                </a:moveTo>
                <a:lnTo>
                  <a:pt x="58293" y="21600"/>
                </a:lnTo>
                <a:lnTo>
                  <a:pt x="56894" y="20200"/>
                </a:lnTo>
                <a:lnTo>
                  <a:pt x="56894" y="1400"/>
                </a:lnTo>
                <a:close/>
              </a:path>
              <a:path fill="darkenLess" w="58293" h="21600">
                <a:moveTo>
                  <a:pt x="58293" y="21600"/>
                </a:moveTo>
                <a:lnTo>
                  <a:pt x="0" y="21600"/>
                </a:lnTo>
                <a:lnTo>
                  <a:pt x="1400" y="20200"/>
                </a:lnTo>
                <a:lnTo>
                  <a:pt x="56894" y="20200"/>
                </a:lnTo>
                <a:close/>
              </a:path>
              <a:path fill="lighten" w="58293"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ylinder</a:t>
            </a:r>
            <a:endParaRPr b="0" lang="en-US" sz="2400" spc="-1" strike="noStrike">
              <a:solidFill>
                <a:srgbClr val="000000"/>
              </a:solidFill>
              <a:latin typeface="Times New Roman"/>
            </a:endParaRPr>
          </a:p>
        </p:txBody>
      </p:sp>
      <p:sp>
        <p:nvSpPr>
          <p:cNvPr id="85" name="">
            <a:hlinkClick r:id="rId4"/>
          </p:cNvPr>
          <p:cNvSpPr/>
          <p:nvPr/>
        </p:nvSpPr>
        <p:spPr>
          <a:xfrm>
            <a:off x="6553080" y="5410080"/>
            <a:ext cx="2057400" cy="609840"/>
          </a:xfrm>
          <a:custGeom>
            <a:avLst/>
            <a:gdLst>
              <a:gd name="textAreaLeft" fmla="*/ 39240 w 2057400"/>
              <a:gd name="textAreaRight" fmla="*/ 2018160 w 2057400"/>
              <a:gd name="textAreaTop" fmla="*/ 39240 h 609840"/>
              <a:gd name="textAreaBottom" fmla="*/ 570600 h 609840"/>
            </a:gdLst>
            <a:ahLst/>
            <a:rect l="textAreaLeft" t="textAreaTop" r="textAreaRight" b="textAreaBottom"/>
            <a:pathLst>
              <a:path w="72841" h="21600">
                <a:moveTo>
                  <a:pt x="0" y="0"/>
                </a:moveTo>
                <a:lnTo>
                  <a:pt x="72841" y="0"/>
                </a:lnTo>
                <a:lnTo>
                  <a:pt x="72841" y="21600"/>
                </a:lnTo>
                <a:lnTo>
                  <a:pt x="0" y="21600"/>
                </a:lnTo>
                <a:close/>
              </a:path>
              <a:path fill="lightenLess" w="72841" h="21600">
                <a:moveTo>
                  <a:pt x="0" y="0"/>
                </a:moveTo>
                <a:lnTo>
                  <a:pt x="72841" y="0"/>
                </a:lnTo>
                <a:lnTo>
                  <a:pt x="71441" y="1400"/>
                </a:lnTo>
                <a:lnTo>
                  <a:pt x="1400" y="1400"/>
                </a:lnTo>
                <a:close/>
              </a:path>
              <a:path fill="darken" w="72841" h="21600">
                <a:moveTo>
                  <a:pt x="72841" y="0"/>
                </a:moveTo>
                <a:lnTo>
                  <a:pt x="72841" y="21600"/>
                </a:lnTo>
                <a:lnTo>
                  <a:pt x="71441" y="20200"/>
                </a:lnTo>
                <a:lnTo>
                  <a:pt x="71441" y="1400"/>
                </a:lnTo>
                <a:close/>
              </a:path>
              <a:path fill="darkenLess" w="72841" h="21600">
                <a:moveTo>
                  <a:pt x="72841" y="21600"/>
                </a:moveTo>
                <a:lnTo>
                  <a:pt x="0" y="21600"/>
                </a:lnTo>
                <a:lnTo>
                  <a:pt x="1400" y="20200"/>
                </a:lnTo>
                <a:lnTo>
                  <a:pt x="71441" y="20200"/>
                </a:lnTo>
                <a:close/>
              </a:path>
              <a:path fill="lighten" w="72841"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k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B5DC082-F454-48E2-BB71-49E2ED2C76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86" name="hintergr."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 viele Farben kann unser Auge unterscheiden?</a:t>
            </a:r>
            <a:endParaRPr b="0" lang="en-US" sz="4400" spc="-1" strike="noStrike">
              <a:solidFill>
                <a:srgbClr val="000000"/>
              </a:solidFill>
              <a:latin typeface="Times New Roman"/>
            </a:endParaRPr>
          </a:p>
        </p:txBody>
      </p:sp>
      <p:sp>
        <p:nvSpPr>
          <p:cNvPr id="88" name=""/>
          <p:cNvSpPr/>
          <p:nvPr/>
        </p:nvSpPr>
        <p:spPr>
          <a:xfrm>
            <a:off x="838080" y="213372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 Farbwürfel enthält    256*256*256 =       16 777 216 Farbpunkte.</a:t>
            </a:r>
            <a:endParaRPr b="0" lang="en-US" sz="3200" spc="-1" strike="noStrike">
              <a:solidFill>
                <a:srgbClr val="000000"/>
              </a:solidFill>
              <a:latin typeface="Times New Roman"/>
            </a:endParaRPr>
          </a:p>
        </p:txBody>
      </p:sp>
      <p:sp>
        <p:nvSpPr>
          <p:cNvPr id="89" name="">
            <a:hlinkClick r:id="rId2"/>
          </p:cNvPr>
          <p:cNvSpPr/>
          <p:nvPr/>
        </p:nvSpPr>
        <p:spPr>
          <a:xfrm>
            <a:off x="4724280" y="5181480"/>
            <a:ext cx="2895840" cy="838440"/>
          </a:xfrm>
          <a:custGeom>
            <a:avLst/>
            <a:gdLst>
              <a:gd name="textAreaLeft" fmla="*/ 54360 w 2895840"/>
              <a:gd name="textAreaRight" fmla="*/ 2841480 w 2895840"/>
              <a:gd name="textAreaTop" fmla="*/ 54360 h 838440"/>
              <a:gd name="textAreaBottom" fmla="*/ 784080 h 838440"/>
            </a:gdLst>
            <a:ahLst/>
            <a:rect l="textAreaLeft" t="textAreaTop" r="textAreaRight" b="textAreaBottom"/>
            <a:pathLst>
              <a:path w="74580" h="21600">
                <a:moveTo>
                  <a:pt x="0" y="0"/>
                </a:moveTo>
                <a:lnTo>
                  <a:pt x="74580" y="0"/>
                </a:lnTo>
                <a:lnTo>
                  <a:pt x="74580" y="21600"/>
                </a:lnTo>
                <a:lnTo>
                  <a:pt x="0" y="21600"/>
                </a:lnTo>
                <a:close/>
              </a:path>
              <a:path fill="lightenLess" w="74580" h="21600">
                <a:moveTo>
                  <a:pt x="0" y="0"/>
                </a:moveTo>
                <a:lnTo>
                  <a:pt x="74580" y="0"/>
                </a:lnTo>
                <a:lnTo>
                  <a:pt x="73180" y="1400"/>
                </a:lnTo>
                <a:lnTo>
                  <a:pt x="1400" y="1400"/>
                </a:lnTo>
                <a:close/>
              </a:path>
              <a:path fill="darken" w="74580" h="21600">
                <a:moveTo>
                  <a:pt x="74580" y="0"/>
                </a:moveTo>
                <a:lnTo>
                  <a:pt x="74580" y="21600"/>
                </a:lnTo>
                <a:lnTo>
                  <a:pt x="73180" y="20200"/>
                </a:lnTo>
                <a:lnTo>
                  <a:pt x="73180" y="1400"/>
                </a:lnTo>
                <a:close/>
              </a:path>
              <a:path fill="darkenLess" w="74580" h="21600">
                <a:moveTo>
                  <a:pt x="74580" y="21600"/>
                </a:moveTo>
                <a:lnTo>
                  <a:pt x="0" y="21600"/>
                </a:lnTo>
                <a:lnTo>
                  <a:pt x="1400" y="20200"/>
                </a:lnTo>
                <a:lnTo>
                  <a:pt x="73180" y="20200"/>
                </a:lnTo>
                <a:close/>
              </a:path>
              <a:path fill="lighten" w="74580"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ion</a:t>
            </a:r>
            <a:endParaRPr b="0" lang="en-US" sz="2400" spc="-1" strike="noStrike">
              <a:solidFill>
                <a:srgbClr val="000000"/>
              </a:solidFill>
              <a:latin typeface="Times New Roman"/>
            </a:endParaRPr>
          </a:p>
        </p:txBody>
      </p:sp>
      <p:sp>
        <p:nvSpPr>
          <p:cNvPr id="90" name=""/>
          <p:cNvSpPr/>
          <p:nvPr/>
        </p:nvSpPr>
        <p:spPr>
          <a:xfrm>
            <a:off x="762120" y="358128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er: Sind sie alle unterscheidbar?</a:t>
            </a:r>
            <a:endParaRPr b="0" lang="en-US" sz="3200" spc="-1" strike="noStrike">
              <a:solidFill>
                <a:srgbClr val="000000"/>
              </a:solidFill>
              <a:latin typeface="Times New Roman"/>
            </a:endParaRPr>
          </a:p>
        </p:txBody>
      </p:sp>
      <p:sp>
        <p:nvSpPr>
          <p:cNvPr id="91" name=""/>
          <p:cNvSpPr/>
          <p:nvPr/>
        </p:nvSpPr>
        <p:spPr>
          <a:xfrm>
            <a:off x="838080" y="426708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se Frage beantwortet der „Farbsp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EBB006A-C136-4868-84C6-26A1F3DD24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5T12:16:18Z</dcterms:created>
  <dc:creator>Helmut Dittmann</dc:creator>
  <dc:description/>
  <dc:language>en-US</dc:language>
  <cp:lastModifiedBy>schneider</cp:lastModifiedBy>
  <dcterms:modified xsi:type="dcterms:W3CDTF">2007-08-10T17:02:08Z</dcterms:modified>
  <cp:revision>194</cp:revision>
  <dc:subject/>
  <dc:title>Farben im Physikunterricht</dc:title>
</cp:coreProperties>
</file>